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hdphoto1.wdp" ContentType="image/vnd.ms-photo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A57-38C8-44FA-95B1-18F2BE76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35C-7ADF-401F-9D4C-4805697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2F2-726F-4DBD-A939-D07E5E4D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E43-9213-4F84-BF57-E2F47852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051-EF19-4425-8AE9-BF45E844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D40-FAC4-4CFA-9ECD-45D78AAD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92F-FD58-4BCE-8491-5A8F009E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7BE-405E-4C3F-A9CA-616BFFE6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9AE-A9EE-42F5-B455-2D896927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906-BFFA-4359-A397-F60A818D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CEE-4F69-40FF-BFDF-86AA270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CD8-D615-40D1-A51B-C0032CE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EA10C5-3E83-4523-A7A7-D306152E39C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-29160" y="0"/>
            <a:ext cx="9171000" cy="51595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0d0d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等腰三角形 5"/>
          <p:cNvSpPr/>
          <p:nvPr/>
        </p:nvSpPr>
        <p:spPr>
          <a:xfrm flipH="1">
            <a:off x="7855920" y="320400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等腰三角形 6"/>
          <p:cNvSpPr/>
          <p:nvPr/>
        </p:nvSpPr>
        <p:spPr>
          <a:xfrm flipH="1">
            <a:off x="6972840" y="320400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等腰三角形 22"/>
          <p:cNvSpPr/>
          <p:nvPr/>
        </p:nvSpPr>
        <p:spPr>
          <a:xfrm flipH="1">
            <a:off x="8740800" y="3204000"/>
            <a:ext cx="400680" cy="697320"/>
          </a:xfrm>
          <a:custGeom>
            <a:avLst/>
            <a:gdLst>
              <a:gd name="textAreaLeft" fmla="*/ -360 w 400680"/>
              <a:gd name="textAreaRight" fmla="*/ 400680 w 40068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401161" h="697576">
                <a:moveTo>
                  <a:pt x="5117" y="0"/>
                </a:moveTo>
                <a:lnTo>
                  <a:pt x="401161" y="697576"/>
                </a:lnTo>
                <a:lnTo>
                  <a:pt x="0" y="697576"/>
                </a:lnTo>
                <a:lnTo>
                  <a:pt x="0" y="9013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等腰三角形 8"/>
          <p:cNvSpPr/>
          <p:nvPr/>
        </p:nvSpPr>
        <p:spPr>
          <a:xfrm flipH="1">
            <a:off x="8293320" y="39499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等腰三角形 9"/>
          <p:cNvSpPr/>
          <p:nvPr/>
        </p:nvSpPr>
        <p:spPr>
          <a:xfrm flipH="1">
            <a:off x="7414200" y="39499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等腰三角形 10"/>
          <p:cNvSpPr/>
          <p:nvPr/>
        </p:nvSpPr>
        <p:spPr>
          <a:xfrm flipH="1">
            <a:off x="6531120" y="39499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等腰三角形 11"/>
          <p:cNvSpPr/>
          <p:nvPr/>
        </p:nvSpPr>
        <p:spPr>
          <a:xfrm flipH="1" flipV="1">
            <a:off x="8293320" y="32032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等腰三角形 12"/>
          <p:cNvSpPr/>
          <p:nvPr/>
        </p:nvSpPr>
        <p:spPr>
          <a:xfrm flipH="1" flipV="1">
            <a:off x="7414200" y="32032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等腰三角形 13"/>
          <p:cNvSpPr/>
          <p:nvPr/>
        </p:nvSpPr>
        <p:spPr>
          <a:xfrm flipH="1" flipV="1">
            <a:off x="6972840" y="393840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等腰三角形 14"/>
          <p:cNvSpPr/>
          <p:nvPr/>
        </p:nvSpPr>
        <p:spPr>
          <a:xfrm flipH="1" flipV="1">
            <a:off x="7855920" y="393840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等腰三角形 30"/>
          <p:cNvSpPr/>
          <p:nvPr/>
        </p:nvSpPr>
        <p:spPr>
          <a:xfrm flipH="1" flipV="1">
            <a:off x="8740800" y="3938400"/>
            <a:ext cx="400680" cy="697320"/>
          </a:xfrm>
          <a:custGeom>
            <a:avLst/>
            <a:gdLst>
              <a:gd name="textAreaLeft" fmla="*/ -360 w 400680"/>
              <a:gd name="textAreaRight" fmla="*/ 400680 w 400680"/>
              <a:gd name="textAreaTop" fmla="*/ -360 h 697320"/>
              <a:gd name="textAreaBottom" fmla="*/ 697320 h 697320"/>
            </a:gdLst>
            <a:ahLst/>
            <a:rect l="textAreaLeft" t="textAreaTop" r="textAreaRight" b="textAreaBottom"/>
            <a:pathLst>
              <a:path w="401161" h="697576">
                <a:moveTo>
                  <a:pt x="0" y="697576"/>
                </a:moveTo>
                <a:lnTo>
                  <a:pt x="401161" y="697576"/>
                </a:lnTo>
                <a:lnTo>
                  <a:pt x="5117" y="0"/>
                </a:lnTo>
                <a:lnTo>
                  <a:pt x="0" y="9013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等腰三角形 31"/>
          <p:cNvSpPr/>
          <p:nvPr/>
        </p:nvSpPr>
        <p:spPr>
          <a:xfrm flipH="1" flipV="1">
            <a:off x="8283960" y="4685760"/>
            <a:ext cx="791640" cy="483840"/>
          </a:xfrm>
          <a:custGeom>
            <a:avLst/>
            <a:gdLst>
              <a:gd name="textAreaLeft" fmla="*/ -360 w 791640"/>
              <a:gd name="textAreaRight" fmla="*/ 791640 w 79164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等腰三角形 32"/>
          <p:cNvSpPr/>
          <p:nvPr/>
        </p:nvSpPr>
        <p:spPr>
          <a:xfrm flipH="1" flipV="1">
            <a:off x="7414200" y="4685760"/>
            <a:ext cx="791640" cy="483840"/>
          </a:xfrm>
          <a:custGeom>
            <a:avLst/>
            <a:gdLst>
              <a:gd name="textAreaLeft" fmla="*/ -360 w 791640"/>
              <a:gd name="textAreaRight" fmla="*/ 791640 w 79164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等腰三角形 33"/>
          <p:cNvSpPr/>
          <p:nvPr/>
        </p:nvSpPr>
        <p:spPr>
          <a:xfrm flipH="1" flipV="1">
            <a:off x="6531120" y="4685760"/>
            <a:ext cx="791640" cy="483840"/>
          </a:xfrm>
          <a:custGeom>
            <a:avLst/>
            <a:gdLst>
              <a:gd name="textAreaLeft" fmla="*/ -360 w 791640"/>
              <a:gd name="textAreaRight" fmla="*/ 791640 w 79164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等腰三角形 34"/>
          <p:cNvSpPr/>
          <p:nvPr/>
        </p:nvSpPr>
        <p:spPr>
          <a:xfrm flipH="1">
            <a:off x="8847000" y="4674960"/>
            <a:ext cx="295200" cy="494640"/>
          </a:xfrm>
          <a:custGeom>
            <a:avLst/>
            <a:gdLst>
              <a:gd name="textAreaLeft" fmla="*/ 360 w 295200"/>
              <a:gd name="textAreaRight" fmla="*/ 295920 w 2952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295607" h="494881">
                <a:moveTo>
                  <a:pt x="14642" y="0"/>
                </a:moveTo>
                <a:lnTo>
                  <a:pt x="295607" y="494881"/>
                </a:lnTo>
                <a:lnTo>
                  <a:pt x="0" y="494881"/>
                </a:lnTo>
                <a:lnTo>
                  <a:pt x="0" y="25790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等腰三角形 35"/>
          <p:cNvSpPr/>
          <p:nvPr/>
        </p:nvSpPr>
        <p:spPr>
          <a:xfrm flipH="1">
            <a:off x="7971480" y="4674960"/>
            <a:ext cx="561600" cy="494640"/>
          </a:xfrm>
          <a:custGeom>
            <a:avLst/>
            <a:gdLst>
              <a:gd name="textAreaLeft" fmla="*/ 360 w 561600"/>
              <a:gd name="textAreaRight" fmla="*/ 562320 w 5616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等腰三角形 36"/>
          <p:cNvSpPr/>
          <p:nvPr/>
        </p:nvSpPr>
        <p:spPr>
          <a:xfrm flipH="1">
            <a:off x="7088760" y="4674960"/>
            <a:ext cx="561600" cy="494640"/>
          </a:xfrm>
          <a:custGeom>
            <a:avLst/>
            <a:gdLst>
              <a:gd name="textAreaLeft" fmla="*/ 360 w 561600"/>
              <a:gd name="textAreaRight" fmla="*/ 562320 w 5616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等腰三角形 37"/>
          <p:cNvSpPr/>
          <p:nvPr/>
        </p:nvSpPr>
        <p:spPr>
          <a:xfrm flipH="1">
            <a:off x="6207480" y="4674960"/>
            <a:ext cx="561600" cy="494640"/>
          </a:xfrm>
          <a:custGeom>
            <a:avLst/>
            <a:gdLst>
              <a:gd name="textAreaLeft" fmla="*/ 360 w 561600"/>
              <a:gd name="textAreaRight" fmla="*/ 562320 w 5616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等腰三角形 102"/>
          <p:cNvSpPr/>
          <p:nvPr/>
        </p:nvSpPr>
        <p:spPr>
          <a:xfrm flipH="1">
            <a:off x="8706600" y="1740960"/>
            <a:ext cx="431640" cy="69732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432048" h="697576">
                <a:moveTo>
                  <a:pt x="36004" y="0"/>
                </a:moveTo>
                <a:lnTo>
                  <a:pt x="0" y="63416"/>
                </a:lnTo>
                <a:lnTo>
                  <a:pt x="0" y="697576"/>
                </a:lnTo>
                <a:lnTo>
                  <a:pt x="432048" y="697576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等腰三角形 24"/>
          <p:cNvSpPr/>
          <p:nvPr/>
        </p:nvSpPr>
        <p:spPr>
          <a:xfrm flipH="1">
            <a:off x="7823880" y="174096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等腰三角形 25"/>
          <p:cNvSpPr/>
          <p:nvPr/>
        </p:nvSpPr>
        <p:spPr>
          <a:xfrm flipH="1" flipV="1">
            <a:off x="8264880" y="17402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等腰三角形 26"/>
          <p:cNvSpPr/>
          <p:nvPr/>
        </p:nvSpPr>
        <p:spPr>
          <a:xfrm flipH="1">
            <a:off x="8196120" y="99756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等腰三角形 27"/>
          <p:cNvSpPr/>
          <p:nvPr/>
        </p:nvSpPr>
        <p:spPr>
          <a:xfrm flipH="1">
            <a:off x="7313400" y="99756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等腰三角形 28"/>
          <p:cNvSpPr/>
          <p:nvPr/>
        </p:nvSpPr>
        <p:spPr>
          <a:xfrm flipH="1" flipV="1">
            <a:off x="8633880" y="9968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等腰三角形 29"/>
          <p:cNvSpPr/>
          <p:nvPr/>
        </p:nvSpPr>
        <p:spPr>
          <a:xfrm flipH="1" flipV="1">
            <a:off x="7754400" y="9968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等腰三角形 30"/>
          <p:cNvSpPr/>
          <p:nvPr/>
        </p:nvSpPr>
        <p:spPr>
          <a:xfrm flipH="1">
            <a:off x="8530560" y="2678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等腰三角形 31"/>
          <p:cNvSpPr/>
          <p:nvPr/>
        </p:nvSpPr>
        <p:spPr>
          <a:xfrm flipH="1">
            <a:off x="7651440" y="2678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等腰三角形 32"/>
          <p:cNvSpPr/>
          <p:nvPr/>
        </p:nvSpPr>
        <p:spPr>
          <a:xfrm flipH="1">
            <a:off x="6768720" y="2678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1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等腰三角形 33"/>
          <p:cNvSpPr/>
          <p:nvPr/>
        </p:nvSpPr>
        <p:spPr>
          <a:xfrm flipH="1" flipV="1">
            <a:off x="7210440" y="2566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1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等腰三角形 34"/>
          <p:cNvSpPr/>
          <p:nvPr/>
        </p:nvSpPr>
        <p:spPr>
          <a:xfrm flipH="1" flipV="1">
            <a:off x="8093160" y="2566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等腰三角形 30"/>
          <p:cNvSpPr/>
          <p:nvPr/>
        </p:nvSpPr>
        <p:spPr>
          <a:xfrm flipH="1" flipV="1">
            <a:off x="8978040" y="256680"/>
            <a:ext cx="400680" cy="697320"/>
          </a:xfrm>
          <a:custGeom>
            <a:avLst/>
            <a:gdLst>
              <a:gd name="textAreaLeft" fmla="*/ -360 w 400680"/>
              <a:gd name="textAreaRight" fmla="*/ 400680 w 400680"/>
              <a:gd name="textAreaTop" fmla="*/ -360 h 697320"/>
              <a:gd name="textAreaBottom" fmla="*/ 697320 h 697320"/>
            </a:gdLst>
            <a:ahLst/>
            <a:rect l="textAreaLeft" t="textAreaTop" r="textAreaRight" b="textAreaBottom"/>
            <a:pathLst>
              <a:path w="401161" h="697576">
                <a:moveTo>
                  <a:pt x="0" y="697576"/>
                </a:moveTo>
                <a:lnTo>
                  <a:pt x="401161" y="697576"/>
                </a:lnTo>
                <a:lnTo>
                  <a:pt x="5117" y="0"/>
                </a:lnTo>
                <a:lnTo>
                  <a:pt x="0" y="9013"/>
                </a:lnTo>
                <a:close/>
              </a:path>
            </a:pathLst>
          </a:custGeom>
          <a:solidFill>
            <a:schemeClr val="bg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等腰三角形 36"/>
          <p:cNvSpPr/>
          <p:nvPr/>
        </p:nvSpPr>
        <p:spPr>
          <a:xfrm flipH="1">
            <a:off x="8245440" y="24746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等腰三角形 37"/>
          <p:cNvSpPr/>
          <p:nvPr/>
        </p:nvSpPr>
        <p:spPr>
          <a:xfrm flipH="1">
            <a:off x="7362720" y="24746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等腰三角形 117"/>
          <p:cNvSpPr/>
          <p:nvPr/>
        </p:nvSpPr>
        <p:spPr>
          <a:xfrm flipH="1" flipV="1">
            <a:off x="8683920" y="2473920"/>
            <a:ext cx="455040" cy="697320"/>
          </a:xfrm>
          <a:custGeom>
            <a:avLst/>
            <a:gdLst>
              <a:gd name="textAreaLeft" fmla="*/ 360 w 455040"/>
              <a:gd name="textAreaRight" fmla="*/ 455760 w 455040"/>
              <a:gd name="textAreaTop" fmla="*/ -360 h 697320"/>
              <a:gd name="textAreaBottom" fmla="*/ 697320 h 697320"/>
            </a:gdLst>
            <a:ahLst/>
            <a:rect l="textAreaLeft" t="textAreaTop" r="textAreaRight" b="textAreaBottom"/>
            <a:pathLst>
              <a:path w="455506" h="697576">
                <a:moveTo>
                  <a:pt x="455506" y="697576"/>
                </a:moveTo>
                <a:lnTo>
                  <a:pt x="0" y="697576"/>
                </a:lnTo>
                <a:lnTo>
                  <a:pt x="0" y="104734"/>
                </a:lnTo>
                <a:lnTo>
                  <a:pt x="59462" y="0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等腰三角形 39"/>
          <p:cNvSpPr/>
          <p:nvPr/>
        </p:nvSpPr>
        <p:spPr>
          <a:xfrm flipH="1" flipV="1">
            <a:off x="7803720" y="24739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等腰三角形 34"/>
          <p:cNvSpPr/>
          <p:nvPr/>
        </p:nvSpPr>
        <p:spPr>
          <a:xfrm flipH="1">
            <a:off x="8829360" y="-272880"/>
            <a:ext cx="295200" cy="494640"/>
          </a:xfrm>
          <a:custGeom>
            <a:avLst/>
            <a:gdLst>
              <a:gd name="textAreaLeft" fmla="*/ 360 w 295200"/>
              <a:gd name="textAreaRight" fmla="*/ 295920 w 2952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295607" h="494881">
                <a:moveTo>
                  <a:pt x="14642" y="0"/>
                </a:moveTo>
                <a:lnTo>
                  <a:pt x="295607" y="494881"/>
                </a:lnTo>
                <a:lnTo>
                  <a:pt x="0" y="494881"/>
                </a:lnTo>
                <a:lnTo>
                  <a:pt x="0" y="25790"/>
                </a:lnTo>
                <a:close/>
              </a:path>
            </a:pathLst>
          </a:custGeom>
          <a:solidFill>
            <a:schemeClr val="bg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等腰三角形 41"/>
          <p:cNvSpPr/>
          <p:nvPr/>
        </p:nvSpPr>
        <p:spPr>
          <a:xfrm>
            <a:off x="464760" y="319392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等腰三角形 42"/>
          <p:cNvSpPr/>
          <p:nvPr/>
        </p:nvSpPr>
        <p:spPr>
          <a:xfrm>
            <a:off x="1347840" y="31939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等腰三角形 22"/>
          <p:cNvSpPr/>
          <p:nvPr/>
        </p:nvSpPr>
        <p:spPr>
          <a:xfrm>
            <a:off x="-29160" y="3193920"/>
            <a:ext cx="400680" cy="697320"/>
          </a:xfrm>
          <a:custGeom>
            <a:avLst/>
            <a:gdLst>
              <a:gd name="textAreaLeft" fmla="*/ 0 w 400680"/>
              <a:gd name="textAreaRight" fmla="*/ 401040 w 40068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401161" h="697576">
                <a:moveTo>
                  <a:pt x="5117" y="0"/>
                </a:moveTo>
                <a:lnTo>
                  <a:pt x="401161" y="697576"/>
                </a:lnTo>
                <a:lnTo>
                  <a:pt x="0" y="697576"/>
                </a:lnTo>
                <a:lnTo>
                  <a:pt x="0" y="9013"/>
                </a:lnTo>
                <a:close/>
              </a:path>
            </a:pathLst>
          </a:custGeom>
          <a:solidFill>
            <a:srgbClr val="0686c8">
              <a:alpha val="5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等腰三角形 44"/>
          <p:cNvSpPr/>
          <p:nvPr/>
        </p:nvSpPr>
        <p:spPr>
          <a:xfrm>
            <a:off x="27360" y="393984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1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等腰三角形 45"/>
          <p:cNvSpPr/>
          <p:nvPr/>
        </p:nvSpPr>
        <p:spPr>
          <a:xfrm>
            <a:off x="906480" y="393984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5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等腰三角形 46"/>
          <p:cNvSpPr/>
          <p:nvPr/>
        </p:nvSpPr>
        <p:spPr>
          <a:xfrm>
            <a:off x="1789560" y="39398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等腰三角形 47"/>
          <p:cNvSpPr/>
          <p:nvPr/>
        </p:nvSpPr>
        <p:spPr>
          <a:xfrm flipV="1">
            <a:off x="27360" y="319320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等腰三角形 48"/>
          <p:cNvSpPr/>
          <p:nvPr/>
        </p:nvSpPr>
        <p:spPr>
          <a:xfrm flipV="1">
            <a:off x="906480" y="319320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等腰三角形 49"/>
          <p:cNvSpPr/>
          <p:nvPr/>
        </p:nvSpPr>
        <p:spPr>
          <a:xfrm flipV="1">
            <a:off x="1347840" y="39286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等腰三角形 50"/>
          <p:cNvSpPr/>
          <p:nvPr/>
        </p:nvSpPr>
        <p:spPr>
          <a:xfrm flipV="1">
            <a:off x="464760" y="392868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4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等腰三角形 30"/>
          <p:cNvSpPr/>
          <p:nvPr/>
        </p:nvSpPr>
        <p:spPr>
          <a:xfrm flipV="1">
            <a:off x="-28800" y="3928680"/>
            <a:ext cx="400680" cy="697320"/>
          </a:xfrm>
          <a:custGeom>
            <a:avLst/>
            <a:gdLst>
              <a:gd name="textAreaLeft" fmla="*/ 0 w 400680"/>
              <a:gd name="textAreaRight" fmla="*/ 401040 w 400680"/>
              <a:gd name="textAreaTop" fmla="*/ -360 h 697320"/>
              <a:gd name="textAreaBottom" fmla="*/ 697320 h 697320"/>
            </a:gdLst>
            <a:ahLst/>
            <a:rect l="textAreaLeft" t="textAreaTop" r="textAreaRight" b="textAreaBottom"/>
            <a:pathLst>
              <a:path w="401161" h="697576">
                <a:moveTo>
                  <a:pt x="0" y="697576"/>
                </a:moveTo>
                <a:lnTo>
                  <a:pt x="401161" y="697576"/>
                </a:lnTo>
                <a:lnTo>
                  <a:pt x="5117" y="0"/>
                </a:lnTo>
                <a:lnTo>
                  <a:pt x="0" y="9013"/>
                </a:lnTo>
                <a:close/>
              </a:path>
            </a:pathLst>
          </a:custGeom>
          <a:solidFill>
            <a:srgbClr val="0686c8">
              <a:alpha val="5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等腰三角形 31"/>
          <p:cNvSpPr/>
          <p:nvPr/>
        </p:nvSpPr>
        <p:spPr>
          <a:xfrm flipV="1">
            <a:off x="36720" y="4675680"/>
            <a:ext cx="791640" cy="483840"/>
          </a:xfrm>
          <a:custGeom>
            <a:avLst/>
            <a:gdLst>
              <a:gd name="textAreaLeft" fmla="*/ 0 w 791640"/>
              <a:gd name="textAreaRight" fmla="*/ 792000 w 79164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rgbClr val="0686c8">
              <a:alpha val="4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等腰三角形 32"/>
          <p:cNvSpPr/>
          <p:nvPr/>
        </p:nvSpPr>
        <p:spPr>
          <a:xfrm flipV="1">
            <a:off x="906480" y="4675680"/>
            <a:ext cx="791640" cy="483840"/>
          </a:xfrm>
          <a:custGeom>
            <a:avLst/>
            <a:gdLst>
              <a:gd name="textAreaLeft" fmla="*/ 0 w 791640"/>
              <a:gd name="textAreaRight" fmla="*/ 792000 w 79164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rgbClr val="0686c8">
              <a:alpha val="9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等腰三角形 33"/>
          <p:cNvSpPr/>
          <p:nvPr/>
        </p:nvSpPr>
        <p:spPr>
          <a:xfrm flipV="1">
            <a:off x="1789560" y="4675680"/>
            <a:ext cx="791640" cy="483840"/>
          </a:xfrm>
          <a:custGeom>
            <a:avLst/>
            <a:gdLst>
              <a:gd name="textAreaLeft" fmla="*/ 0 w 791640"/>
              <a:gd name="textAreaRight" fmla="*/ 792000 w 79164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等腰三角形 34"/>
          <p:cNvSpPr/>
          <p:nvPr/>
        </p:nvSpPr>
        <p:spPr>
          <a:xfrm>
            <a:off x="-29160" y="4664880"/>
            <a:ext cx="295200" cy="494640"/>
          </a:xfrm>
          <a:custGeom>
            <a:avLst/>
            <a:gdLst>
              <a:gd name="textAreaLeft" fmla="*/ 0 w 295200"/>
              <a:gd name="textAreaRight" fmla="*/ 295560 w 2952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295607" h="494881">
                <a:moveTo>
                  <a:pt x="14642" y="0"/>
                </a:moveTo>
                <a:lnTo>
                  <a:pt x="295607" y="494881"/>
                </a:lnTo>
                <a:lnTo>
                  <a:pt x="0" y="494881"/>
                </a:lnTo>
                <a:lnTo>
                  <a:pt x="0" y="25790"/>
                </a:lnTo>
                <a:close/>
              </a:path>
            </a:pathLst>
          </a:custGeom>
          <a:solidFill>
            <a:srgbClr val="0686c8">
              <a:alpha val="8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等腰三角形 35"/>
          <p:cNvSpPr/>
          <p:nvPr/>
        </p:nvSpPr>
        <p:spPr>
          <a:xfrm>
            <a:off x="579960" y="4664880"/>
            <a:ext cx="561600" cy="494640"/>
          </a:xfrm>
          <a:custGeom>
            <a:avLst/>
            <a:gdLst>
              <a:gd name="textAreaLeft" fmla="*/ 0 w 561600"/>
              <a:gd name="textAreaRight" fmla="*/ 561960 w 5616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rgbClr val="0686c8">
              <a:alpha val="7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等腰三角形 36"/>
          <p:cNvSpPr/>
          <p:nvPr/>
        </p:nvSpPr>
        <p:spPr>
          <a:xfrm>
            <a:off x="1462680" y="4664880"/>
            <a:ext cx="561600" cy="494640"/>
          </a:xfrm>
          <a:custGeom>
            <a:avLst/>
            <a:gdLst>
              <a:gd name="textAreaLeft" fmla="*/ 0 w 561600"/>
              <a:gd name="textAreaRight" fmla="*/ 561960 w 5616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rgbClr val="0686c8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等腰三角形 37"/>
          <p:cNvSpPr/>
          <p:nvPr/>
        </p:nvSpPr>
        <p:spPr>
          <a:xfrm>
            <a:off x="2344320" y="4664880"/>
            <a:ext cx="561600" cy="494640"/>
          </a:xfrm>
          <a:custGeom>
            <a:avLst/>
            <a:gdLst>
              <a:gd name="textAreaLeft" fmla="*/ 0 w 561600"/>
              <a:gd name="textAreaRight" fmla="*/ 561960 w 5616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等腰三角形 34"/>
          <p:cNvSpPr/>
          <p:nvPr/>
        </p:nvSpPr>
        <p:spPr>
          <a:xfrm>
            <a:off x="-27360" y="1730880"/>
            <a:ext cx="433440" cy="697320"/>
          </a:xfrm>
          <a:custGeom>
            <a:avLst/>
            <a:gdLst>
              <a:gd name="textAreaLeft" fmla="*/ 0 w 433440"/>
              <a:gd name="textAreaRight" fmla="*/ 433800 w 43344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433728" h="697576">
                <a:moveTo>
                  <a:pt x="37684" y="0"/>
                </a:moveTo>
                <a:lnTo>
                  <a:pt x="433728" y="697576"/>
                </a:lnTo>
                <a:lnTo>
                  <a:pt x="0" y="697576"/>
                </a:lnTo>
                <a:lnTo>
                  <a:pt x="0" y="66375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等腰三角形 60"/>
          <p:cNvSpPr/>
          <p:nvPr/>
        </p:nvSpPr>
        <p:spPr>
          <a:xfrm>
            <a:off x="496800" y="17308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等腰三角形 61"/>
          <p:cNvSpPr/>
          <p:nvPr/>
        </p:nvSpPr>
        <p:spPr>
          <a:xfrm flipV="1">
            <a:off x="55800" y="173016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等腰三角形 62"/>
          <p:cNvSpPr/>
          <p:nvPr/>
        </p:nvSpPr>
        <p:spPr>
          <a:xfrm>
            <a:off x="124560" y="9874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等腰三角形 63"/>
          <p:cNvSpPr/>
          <p:nvPr/>
        </p:nvSpPr>
        <p:spPr>
          <a:xfrm>
            <a:off x="1007280" y="9874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等腰三角形 42"/>
          <p:cNvSpPr/>
          <p:nvPr/>
        </p:nvSpPr>
        <p:spPr>
          <a:xfrm flipV="1">
            <a:off x="-27000" y="986760"/>
            <a:ext cx="506160" cy="697320"/>
          </a:xfrm>
          <a:custGeom>
            <a:avLst/>
            <a:gdLst>
              <a:gd name="textAreaLeft" fmla="*/ 0 w 506160"/>
              <a:gd name="textAreaRight" fmla="*/ 506520 w 506160"/>
              <a:gd name="textAreaTop" fmla="*/ -360 h 697320"/>
              <a:gd name="textAreaBottom" fmla="*/ 697320 h 697320"/>
            </a:gdLst>
            <a:ahLst/>
            <a:rect l="textAreaLeft" t="textAreaTop" r="textAreaRight" b="textAreaBottom"/>
            <a:pathLst>
              <a:path w="506526" h="697576">
                <a:moveTo>
                  <a:pt x="0" y="697576"/>
                </a:moveTo>
                <a:lnTo>
                  <a:pt x="506526" y="697576"/>
                </a:lnTo>
                <a:lnTo>
                  <a:pt x="110482" y="0"/>
                </a:lnTo>
                <a:lnTo>
                  <a:pt x="0" y="194599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等腰三角形 65"/>
          <p:cNvSpPr/>
          <p:nvPr/>
        </p:nvSpPr>
        <p:spPr>
          <a:xfrm flipV="1">
            <a:off x="566280" y="98676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等腰三角形 44"/>
          <p:cNvSpPr/>
          <p:nvPr/>
        </p:nvSpPr>
        <p:spPr>
          <a:xfrm>
            <a:off x="-27360" y="258120"/>
            <a:ext cx="609120" cy="697320"/>
          </a:xfrm>
          <a:custGeom>
            <a:avLst/>
            <a:gdLst>
              <a:gd name="textAreaLeft" fmla="*/ 0 w 609120"/>
              <a:gd name="textAreaRight" fmla="*/ 609480 w 60912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609576" h="697576">
                <a:moveTo>
                  <a:pt x="213532" y="0"/>
                </a:moveTo>
                <a:lnTo>
                  <a:pt x="609576" y="697576"/>
                </a:lnTo>
                <a:lnTo>
                  <a:pt x="0" y="697576"/>
                </a:lnTo>
                <a:lnTo>
                  <a:pt x="0" y="376107"/>
                </a:lnTo>
                <a:close/>
              </a:path>
            </a:pathLst>
          </a:custGeom>
          <a:solidFill>
            <a:schemeClr val="bg1">
              <a:alpha val="2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等腰三角形 67"/>
          <p:cNvSpPr/>
          <p:nvPr/>
        </p:nvSpPr>
        <p:spPr>
          <a:xfrm>
            <a:off x="669240" y="2581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等腰三角形 68"/>
          <p:cNvSpPr/>
          <p:nvPr/>
        </p:nvSpPr>
        <p:spPr>
          <a:xfrm>
            <a:off x="1551960" y="2581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等腰三角形 69"/>
          <p:cNvSpPr/>
          <p:nvPr/>
        </p:nvSpPr>
        <p:spPr>
          <a:xfrm flipV="1">
            <a:off x="1110240" y="2462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等腰三角形 70"/>
          <p:cNvSpPr/>
          <p:nvPr/>
        </p:nvSpPr>
        <p:spPr>
          <a:xfrm flipV="1">
            <a:off x="227520" y="24624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等腰三角形 71"/>
          <p:cNvSpPr/>
          <p:nvPr/>
        </p:nvSpPr>
        <p:spPr>
          <a:xfrm>
            <a:off x="75240" y="24649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等腰三角形 72"/>
          <p:cNvSpPr/>
          <p:nvPr/>
        </p:nvSpPr>
        <p:spPr>
          <a:xfrm>
            <a:off x="957960" y="24649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等腰三角形 53"/>
          <p:cNvSpPr/>
          <p:nvPr/>
        </p:nvSpPr>
        <p:spPr>
          <a:xfrm flipV="1">
            <a:off x="-27000" y="2464200"/>
            <a:ext cx="456840" cy="697320"/>
          </a:xfrm>
          <a:custGeom>
            <a:avLst/>
            <a:gdLst>
              <a:gd name="textAreaLeft" fmla="*/ 0 w 456840"/>
              <a:gd name="textAreaRight" fmla="*/ 457200 w 456840"/>
              <a:gd name="textAreaTop" fmla="*/ -360 h 697320"/>
              <a:gd name="textAreaBottom" fmla="*/ 697320 h 697320"/>
            </a:gdLst>
            <a:ahLst/>
            <a:rect l="textAreaLeft" t="textAreaTop" r="textAreaRight" b="textAreaBottom"/>
            <a:pathLst>
              <a:path w="457186" h="697576">
                <a:moveTo>
                  <a:pt x="0" y="697576"/>
                </a:moveTo>
                <a:lnTo>
                  <a:pt x="457186" y="697576"/>
                </a:lnTo>
                <a:lnTo>
                  <a:pt x="61142" y="0"/>
                </a:lnTo>
                <a:lnTo>
                  <a:pt x="0" y="107693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等腰三角形 74"/>
          <p:cNvSpPr/>
          <p:nvPr/>
        </p:nvSpPr>
        <p:spPr>
          <a:xfrm flipV="1">
            <a:off x="516960" y="246420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等腰三角形 31"/>
          <p:cNvSpPr/>
          <p:nvPr/>
        </p:nvSpPr>
        <p:spPr>
          <a:xfrm flipV="1">
            <a:off x="188640" y="-35280"/>
            <a:ext cx="522720" cy="246960"/>
          </a:xfrm>
          <a:custGeom>
            <a:avLst/>
            <a:gdLst>
              <a:gd name="textAreaLeft" fmla="*/ 0 w 522720"/>
              <a:gd name="textAreaRight" fmla="*/ 523080 w 522720"/>
              <a:gd name="textAreaTop" fmla="*/ 360 h 246960"/>
              <a:gd name="textAreaBottom" fmla="*/ 247680 h 246960"/>
            </a:gdLst>
            <a:ahLst/>
            <a:rect l="textAreaLeft" t="textAreaTop" r="textAreaRight" b="textAreaBottom"/>
            <a:pathLst>
              <a:path w="523172" h="247440">
                <a:moveTo>
                  <a:pt x="0" y="247440"/>
                </a:moveTo>
                <a:lnTo>
                  <a:pt x="523172" y="247440"/>
                </a:lnTo>
                <a:lnTo>
                  <a:pt x="382690" y="0"/>
                </a:lnTo>
                <a:lnTo>
                  <a:pt x="140482" y="0"/>
                </a:lnTo>
                <a:close/>
              </a:path>
            </a:pathLst>
          </a:cu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等腰三角形 32"/>
          <p:cNvSpPr/>
          <p:nvPr/>
        </p:nvSpPr>
        <p:spPr>
          <a:xfrm flipV="1">
            <a:off x="1058400" y="-35280"/>
            <a:ext cx="522720" cy="246960"/>
          </a:xfrm>
          <a:custGeom>
            <a:avLst/>
            <a:gdLst>
              <a:gd name="textAreaLeft" fmla="*/ 0 w 522720"/>
              <a:gd name="textAreaRight" fmla="*/ 523080 w 522720"/>
              <a:gd name="textAreaTop" fmla="*/ 360 h 246960"/>
              <a:gd name="textAreaBottom" fmla="*/ 247680 h 246960"/>
            </a:gdLst>
            <a:ahLst/>
            <a:rect l="textAreaLeft" t="textAreaTop" r="textAreaRight" b="textAreaBottom"/>
            <a:pathLst>
              <a:path w="523172" h="247440">
                <a:moveTo>
                  <a:pt x="0" y="247440"/>
                </a:moveTo>
                <a:lnTo>
                  <a:pt x="523172" y="247440"/>
                </a:lnTo>
                <a:lnTo>
                  <a:pt x="382690" y="0"/>
                </a:lnTo>
                <a:lnTo>
                  <a:pt x="140482" y="0"/>
                </a:lnTo>
                <a:close/>
              </a:path>
            </a:pathLst>
          </a:cu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等腰三角形 33"/>
          <p:cNvSpPr/>
          <p:nvPr/>
        </p:nvSpPr>
        <p:spPr>
          <a:xfrm flipV="1">
            <a:off x="1941120" y="-35280"/>
            <a:ext cx="522720" cy="246960"/>
          </a:xfrm>
          <a:custGeom>
            <a:avLst/>
            <a:gdLst>
              <a:gd name="textAreaLeft" fmla="*/ 0 w 522720"/>
              <a:gd name="textAreaRight" fmla="*/ 523080 w 522720"/>
              <a:gd name="textAreaTop" fmla="*/ 360 h 246960"/>
              <a:gd name="textAreaBottom" fmla="*/ 247680 h 246960"/>
            </a:gdLst>
            <a:ahLst/>
            <a:rect l="textAreaLeft" t="textAreaTop" r="textAreaRight" b="textAreaBottom"/>
            <a:pathLst>
              <a:path w="523173" h="247440">
                <a:moveTo>
                  <a:pt x="0" y="247440"/>
                </a:moveTo>
                <a:lnTo>
                  <a:pt x="523173" y="247440"/>
                </a:lnTo>
                <a:lnTo>
                  <a:pt x="382690" y="0"/>
                </a:lnTo>
                <a:lnTo>
                  <a:pt x="140482" y="0"/>
                </a:lnTo>
                <a:close/>
              </a:path>
            </a:pathLst>
          </a:cu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等腰三角形 34"/>
          <p:cNvSpPr/>
          <p:nvPr/>
        </p:nvSpPr>
        <p:spPr>
          <a:xfrm>
            <a:off x="-11520" y="-35280"/>
            <a:ext cx="295200" cy="246960"/>
          </a:xfrm>
          <a:custGeom>
            <a:avLst/>
            <a:gdLst>
              <a:gd name="textAreaLeft" fmla="*/ 0 w 295200"/>
              <a:gd name="textAreaRight" fmla="*/ 295560 w 295200"/>
              <a:gd name="textAreaTop" fmla="*/ 0 h 246960"/>
              <a:gd name="textAreaBottom" fmla="*/ 247320 h 246960"/>
            </a:gdLst>
            <a:ahLst/>
            <a:rect l="textAreaLeft" t="textAreaTop" r="textAreaRight" b="textAreaBottom"/>
            <a:pathLst>
              <a:path w="295607" h="247441">
                <a:moveTo>
                  <a:pt x="0" y="0"/>
                </a:moveTo>
                <a:lnTo>
                  <a:pt x="155124" y="0"/>
                </a:lnTo>
                <a:lnTo>
                  <a:pt x="295607" y="247441"/>
                </a:lnTo>
                <a:lnTo>
                  <a:pt x="0" y="247441"/>
                </a:lnTo>
                <a:close/>
              </a:path>
            </a:pathLst>
          </a:cu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等腰三角形 35"/>
          <p:cNvSpPr/>
          <p:nvPr/>
        </p:nvSpPr>
        <p:spPr>
          <a:xfrm>
            <a:off x="597240" y="-35280"/>
            <a:ext cx="561600" cy="246960"/>
          </a:xfrm>
          <a:custGeom>
            <a:avLst/>
            <a:gdLst>
              <a:gd name="textAreaLeft" fmla="*/ 0 w 561600"/>
              <a:gd name="textAreaRight" fmla="*/ 561960 w 561600"/>
              <a:gd name="textAreaTop" fmla="*/ 0 h 246960"/>
              <a:gd name="textAreaBottom" fmla="*/ 247320 h 246960"/>
            </a:gdLst>
            <a:ahLst/>
            <a:rect l="textAreaLeft" t="textAreaTop" r="textAreaRight" b="textAreaBottom"/>
            <a:pathLst>
              <a:path w="561930" h="247441">
                <a:moveTo>
                  <a:pt x="140483" y="0"/>
                </a:moveTo>
                <a:lnTo>
                  <a:pt x="421447" y="0"/>
                </a:lnTo>
                <a:lnTo>
                  <a:pt x="561930" y="247441"/>
                </a:lnTo>
                <a:lnTo>
                  <a:pt x="0" y="247441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等腰三角形 36"/>
          <p:cNvSpPr/>
          <p:nvPr/>
        </p:nvSpPr>
        <p:spPr>
          <a:xfrm>
            <a:off x="1480320" y="-35280"/>
            <a:ext cx="561600" cy="246960"/>
          </a:xfrm>
          <a:custGeom>
            <a:avLst/>
            <a:gdLst>
              <a:gd name="textAreaLeft" fmla="*/ 0 w 561600"/>
              <a:gd name="textAreaRight" fmla="*/ 561960 w 561600"/>
              <a:gd name="textAreaTop" fmla="*/ 0 h 246960"/>
              <a:gd name="textAreaBottom" fmla="*/ 247320 h 246960"/>
            </a:gdLst>
            <a:ahLst/>
            <a:rect l="textAreaLeft" t="textAreaTop" r="textAreaRight" b="textAreaBottom"/>
            <a:pathLst>
              <a:path w="561930" h="247441">
                <a:moveTo>
                  <a:pt x="140483" y="0"/>
                </a:moveTo>
                <a:lnTo>
                  <a:pt x="421447" y="0"/>
                </a:lnTo>
                <a:lnTo>
                  <a:pt x="561930" y="247441"/>
                </a:lnTo>
                <a:lnTo>
                  <a:pt x="0" y="247441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等腰三角形 37"/>
          <p:cNvSpPr/>
          <p:nvPr/>
        </p:nvSpPr>
        <p:spPr>
          <a:xfrm>
            <a:off x="2361600" y="-35280"/>
            <a:ext cx="561600" cy="246960"/>
          </a:xfrm>
          <a:custGeom>
            <a:avLst/>
            <a:gdLst>
              <a:gd name="textAreaLeft" fmla="*/ 0 w 561600"/>
              <a:gd name="textAreaRight" fmla="*/ 561960 w 561600"/>
              <a:gd name="textAreaTop" fmla="*/ 0 h 246960"/>
              <a:gd name="textAreaBottom" fmla="*/ 247320 h 246960"/>
            </a:gdLst>
            <a:ahLst/>
            <a:rect l="textAreaLeft" t="textAreaTop" r="textAreaRight" b="textAreaBottom"/>
            <a:pathLst>
              <a:path w="561930" h="247441">
                <a:moveTo>
                  <a:pt x="140483" y="0"/>
                </a:moveTo>
                <a:lnTo>
                  <a:pt x="421447" y="0"/>
                </a:lnTo>
                <a:lnTo>
                  <a:pt x="561930" y="247441"/>
                </a:lnTo>
                <a:lnTo>
                  <a:pt x="0" y="247441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等腰三角形 63"/>
          <p:cNvSpPr/>
          <p:nvPr/>
        </p:nvSpPr>
        <p:spPr>
          <a:xfrm flipH="1" flipV="1">
            <a:off x="8933040" y="1065600"/>
            <a:ext cx="212040" cy="366120"/>
          </a:xfrm>
          <a:custGeom>
            <a:avLst/>
            <a:gdLst>
              <a:gd name="textAreaLeft" fmla="*/ -360 w 212040"/>
              <a:gd name="textAreaRight" fmla="*/ 212040 w 212040"/>
              <a:gd name="textAreaTop" fmla="*/ -360 h 366120"/>
              <a:gd name="textAreaBottom" fmla="*/ 366120 h 366120"/>
            </a:gdLst>
            <a:ahLst/>
            <a:rect l="textAreaLeft" t="textAreaTop" r="textAreaRight" b="textAreaBottom"/>
            <a:pathLst>
              <a:path w="212556" h="366481">
                <a:moveTo>
                  <a:pt x="212556" y="366481"/>
                </a:moveTo>
                <a:lnTo>
                  <a:pt x="0" y="366481"/>
                </a:lnTo>
                <a:lnTo>
                  <a:pt x="0" y="7907"/>
                </a:lnTo>
                <a:lnTo>
                  <a:pt x="4489" y="0"/>
                </a:lnTo>
                <a:close/>
              </a:path>
            </a:pathLst>
          </a:custGeom>
          <a:solidFill>
            <a:srgbClr val="0686c8">
              <a:alpha val="7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等腰三角形 83"/>
          <p:cNvSpPr/>
          <p:nvPr/>
        </p:nvSpPr>
        <p:spPr>
          <a:xfrm flipH="1" flipV="1">
            <a:off x="8417880" y="1065600"/>
            <a:ext cx="415800" cy="366120"/>
          </a:xfrm>
          <a:prstGeom prst="triangle">
            <a:avLst>
              <a:gd name="adj" fmla="val 50000"/>
            </a:avLst>
          </a:prstGeom>
          <a:solidFill>
            <a:srgbClr val="0686c8">
              <a:alpha val="7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等腰三角形 84"/>
          <p:cNvSpPr/>
          <p:nvPr/>
        </p:nvSpPr>
        <p:spPr>
          <a:xfrm flipH="1" flipV="1">
            <a:off x="8649720" y="678600"/>
            <a:ext cx="415800" cy="366120"/>
          </a:xfrm>
          <a:prstGeom prst="triangle">
            <a:avLst>
              <a:gd name="adj" fmla="val 50000"/>
            </a:avLst>
          </a:prstGeom>
          <a:solidFill>
            <a:srgbClr val="0686c8">
              <a:alpha val="3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等腰三角形 85"/>
          <p:cNvSpPr/>
          <p:nvPr/>
        </p:nvSpPr>
        <p:spPr>
          <a:xfrm flipH="1" flipV="1">
            <a:off x="8186040" y="678600"/>
            <a:ext cx="415800" cy="366120"/>
          </a:xfrm>
          <a:prstGeom prst="triangle">
            <a:avLst>
              <a:gd name="adj" fmla="val 50000"/>
            </a:avLst>
          </a:prstGeom>
          <a:solidFill>
            <a:srgbClr val="0686c8">
              <a:alpha val="3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等腰三角形 67"/>
          <p:cNvSpPr/>
          <p:nvPr/>
        </p:nvSpPr>
        <p:spPr>
          <a:xfrm flipH="1" flipV="1">
            <a:off x="8879760" y="280080"/>
            <a:ext cx="261720" cy="366120"/>
          </a:xfrm>
          <a:custGeom>
            <a:avLst/>
            <a:gdLst>
              <a:gd name="textAreaLeft" fmla="*/ -360 w 261720"/>
              <a:gd name="textAreaRight" fmla="*/ 261720 w 261720"/>
              <a:gd name="textAreaTop" fmla="*/ -360 h 366120"/>
              <a:gd name="textAreaBottom" fmla="*/ 366120 h 366120"/>
            </a:gdLst>
            <a:ahLst/>
            <a:rect l="textAreaLeft" t="textAreaTop" r="textAreaRight" b="textAreaBottom"/>
            <a:pathLst>
              <a:path w="262111" h="366481">
                <a:moveTo>
                  <a:pt x="262111" y="366481"/>
                </a:moveTo>
                <a:lnTo>
                  <a:pt x="0" y="366481"/>
                </a:lnTo>
                <a:lnTo>
                  <a:pt x="0" y="95191"/>
                </a:lnTo>
                <a:lnTo>
                  <a:pt x="54044" y="0"/>
                </a:lnTo>
                <a:close/>
              </a:path>
            </a:pathLst>
          </a:custGeom>
          <a:solidFill>
            <a:srgbClr val="0686c8">
              <a:alpha val="4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等腰三角形 87"/>
          <p:cNvSpPr/>
          <p:nvPr/>
        </p:nvSpPr>
        <p:spPr>
          <a:xfrm flipH="1" flipV="1">
            <a:off x="8417880" y="280080"/>
            <a:ext cx="415800" cy="366120"/>
          </a:xfrm>
          <a:prstGeom prst="triangle">
            <a:avLst>
              <a:gd name="adj" fmla="val 50000"/>
            </a:avLst>
          </a:prstGeom>
          <a:solidFill>
            <a:srgbClr val="0686c8">
              <a:alpha val="7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等腰三角形 88"/>
          <p:cNvSpPr/>
          <p:nvPr/>
        </p:nvSpPr>
        <p:spPr>
          <a:xfrm flipH="1" flipV="1">
            <a:off x="7953840" y="280080"/>
            <a:ext cx="415800" cy="366120"/>
          </a:xfrm>
          <a:prstGeom prst="triangle">
            <a:avLst>
              <a:gd name="adj" fmla="val 50000"/>
            </a:avLst>
          </a:prstGeom>
          <a:solidFill>
            <a:srgbClr val="0686c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等腰三角形 70"/>
          <p:cNvSpPr/>
          <p:nvPr/>
        </p:nvSpPr>
        <p:spPr>
          <a:xfrm flipH="1">
            <a:off x="8880480" y="679320"/>
            <a:ext cx="265680" cy="366120"/>
          </a:xfrm>
          <a:custGeom>
            <a:avLst/>
            <a:gdLst>
              <a:gd name="textAreaLeft" fmla="*/ 360 w 265680"/>
              <a:gd name="textAreaRight" fmla="*/ 266400 w 265680"/>
              <a:gd name="textAreaTop" fmla="*/ 0 h 366120"/>
              <a:gd name="textAreaBottom" fmla="*/ 366480 h 366120"/>
            </a:gdLst>
            <a:ahLst/>
            <a:rect l="textAreaLeft" t="textAreaTop" r="textAreaRight" b="textAreaBottom"/>
            <a:pathLst>
              <a:path w="265932" h="366481">
                <a:moveTo>
                  <a:pt x="57865" y="0"/>
                </a:moveTo>
                <a:lnTo>
                  <a:pt x="0" y="101921"/>
                </a:lnTo>
                <a:lnTo>
                  <a:pt x="0" y="366481"/>
                </a:lnTo>
                <a:lnTo>
                  <a:pt x="265932" y="366481"/>
                </a:lnTo>
                <a:close/>
              </a:path>
            </a:pathLst>
          </a:cu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等腰三角形 90"/>
          <p:cNvSpPr/>
          <p:nvPr/>
        </p:nvSpPr>
        <p:spPr>
          <a:xfrm flipH="1">
            <a:off x="8186040" y="286200"/>
            <a:ext cx="415800" cy="366120"/>
          </a:xfrm>
          <a:prstGeom prst="triangle">
            <a:avLst>
              <a:gd name="adj" fmla="val 50000"/>
            </a:avLst>
          </a:prstGeom>
          <a:solidFill>
            <a:srgbClr val="0686c8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等腰三角形 31"/>
          <p:cNvSpPr/>
          <p:nvPr/>
        </p:nvSpPr>
        <p:spPr>
          <a:xfrm flipH="1">
            <a:off x="8875440" y="6120"/>
            <a:ext cx="270720" cy="254160"/>
          </a:xfrm>
          <a:custGeom>
            <a:avLst/>
            <a:gdLst>
              <a:gd name="textAreaLeft" fmla="*/ 360 w 270720"/>
              <a:gd name="textAreaRight" fmla="*/ 271440 w 270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70936" h="254416">
                <a:moveTo>
                  <a:pt x="126493" y="0"/>
                </a:moveTo>
                <a:lnTo>
                  <a:pt x="0" y="0"/>
                </a:lnTo>
                <a:lnTo>
                  <a:pt x="0" y="254416"/>
                </a:lnTo>
                <a:lnTo>
                  <a:pt x="270936" y="254416"/>
                </a:lnTo>
                <a:close/>
              </a:path>
            </a:pathLst>
          </a:custGeom>
          <a:solidFill>
            <a:srgbClr val="0686c8">
              <a:alpha val="2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等腰三角形 32"/>
          <p:cNvSpPr/>
          <p:nvPr/>
        </p:nvSpPr>
        <p:spPr>
          <a:xfrm flipH="1">
            <a:off x="8417880" y="6120"/>
            <a:ext cx="415800" cy="254160"/>
          </a:xfrm>
          <a:custGeom>
            <a:avLst/>
            <a:gdLst>
              <a:gd name="textAreaLeft" fmla="*/ -360 w 415800"/>
              <a:gd name="textAreaRight" fmla="*/ 415800 w 4158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rgbClr val="0686c8">
              <a:alpha val="3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等腰三角形 33"/>
          <p:cNvSpPr/>
          <p:nvPr/>
        </p:nvSpPr>
        <p:spPr>
          <a:xfrm flipH="1">
            <a:off x="7953840" y="6120"/>
            <a:ext cx="415800" cy="254160"/>
          </a:xfrm>
          <a:custGeom>
            <a:avLst/>
            <a:gdLst>
              <a:gd name="textAreaLeft" fmla="*/ -360 w 415800"/>
              <a:gd name="textAreaRight" fmla="*/ 415800 w 4158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rgbClr val="0686c8">
              <a:alpha val="7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等腰三角形 35"/>
          <p:cNvSpPr/>
          <p:nvPr/>
        </p:nvSpPr>
        <p:spPr>
          <a:xfrm flipH="1" flipV="1">
            <a:off x="8710200" y="5400"/>
            <a:ext cx="294840" cy="259560"/>
          </a:xfrm>
          <a:custGeom>
            <a:avLst/>
            <a:gdLst>
              <a:gd name="textAreaLeft" fmla="*/ -360 w 294840"/>
              <a:gd name="textAreaRight" fmla="*/ 294840 w 294840"/>
              <a:gd name="textAreaTop" fmla="*/ -360 h 259560"/>
              <a:gd name="textAreaBottom" fmla="*/ 259560 h 25956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rgbClr val="0686c8">
              <a:alpha val="2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等腰三角形 36"/>
          <p:cNvSpPr/>
          <p:nvPr/>
        </p:nvSpPr>
        <p:spPr>
          <a:xfrm flipH="1" flipV="1">
            <a:off x="8246520" y="5400"/>
            <a:ext cx="294840" cy="259560"/>
          </a:xfrm>
          <a:custGeom>
            <a:avLst/>
            <a:gdLst>
              <a:gd name="textAreaLeft" fmla="*/ -360 w 294840"/>
              <a:gd name="textAreaRight" fmla="*/ 294840 w 294840"/>
              <a:gd name="textAreaTop" fmla="*/ -360 h 259560"/>
              <a:gd name="textAreaBottom" fmla="*/ 259560 h 25956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rgbClr val="0686c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等腰三角形 37"/>
          <p:cNvSpPr/>
          <p:nvPr/>
        </p:nvSpPr>
        <p:spPr>
          <a:xfrm flipH="1" flipV="1">
            <a:off x="7783560" y="5400"/>
            <a:ext cx="294840" cy="259560"/>
          </a:xfrm>
          <a:custGeom>
            <a:avLst/>
            <a:gdLst>
              <a:gd name="textAreaLeft" fmla="*/ -360 w 294840"/>
              <a:gd name="textAreaRight" fmla="*/ 294840 w 294840"/>
              <a:gd name="textAreaTop" fmla="*/ -360 h 259560"/>
              <a:gd name="textAreaBottom" fmla="*/ 259560 h 25956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rgbClr val="0686c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等腰三角形 97"/>
          <p:cNvSpPr/>
          <p:nvPr/>
        </p:nvSpPr>
        <p:spPr>
          <a:xfrm flipH="1">
            <a:off x="8652600" y="286200"/>
            <a:ext cx="415800" cy="366120"/>
          </a:xfrm>
          <a:prstGeom prst="triangle">
            <a:avLst>
              <a:gd name="adj" fmla="val 50000"/>
            </a:avLst>
          </a:prstGeom>
          <a:solidFill>
            <a:srgbClr val="0686c8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等腰三角形 98"/>
          <p:cNvSpPr/>
          <p:nvPr/>
        </p:nvSpPr>
        <p:spPr>
          <a:xfrm flipH="1">
            <a:off x="8417880" y="679320"/>
            <a:ext cx="415800" cy="366120"/>
          </a:xfrm>
          <a:prstGeom prst="triangle">
            <a:avLst>
              <a:gd name="adj" fmla="val 50000"/>
            </a:avLst>
          </a:prstGeom>
          <a:solidFill>
            <a:srgbClr val="0686c8">
              <a:alpha val="2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6" name="组合 99"/>
          <p:cNvGrpSpPr/>
          <p:nvPr/>
        </p:nvGrpSpPr>
        <p:grpSpPr>
          <a:xfrm>
            <a:off x="569520" y="269280"/>
            <a:ext cx="209160" cy="337320"/>
            <a:chOff x="569520" y="269280"/>
            <a:chExt cx="209160" cy="337320"/>
          </a:xfrm>
        </p:grpSpPr>
        <p:sp>
          <p:nvSpPr>
            <p:cNvPr id="137" name="AutoShape 6"/>
            <p:cNvSpPr/>
            <p:nvPr/>
          </p:nvSpPr>
          <p:spPr>
            <a:xfrm>
              <a:off x="570960" y="273600"/>
              <a:ext cx="206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598320" y="387360"/>
              <a:ext cx="167400" cy="1645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385" h="1526">
                  <a:moveTo>
                    <a:pt x="1360" y="575"/>
                  </a:moveTo>
                  <a:cubicBezTo>
                    <a:pt x="1334" y="519"/>
                    <a:pt x="1268" y="494"/>
                    <a:pt x="1213" y="520"/>
                  </a:cubicBezTo>
                  <a:cubicBezTo>
                    <a:pt x="987" y="622"/>
                    <a:pt x="832" y="747"/>
                    <a:pt x="726" y="874"/>
                  </a:cubicBezTo>
                  <a:cubicBezTo>
                    <a:pt x="726" y="111"/>
                    <a:pt x="726" y="111"/>
                    <a:pt x="726" y="111"/>
                  </a:cubicBezTo>
                  <a:cubicBezTo>
                    <a:pt x="726" y="49"/>
                    <a:pt x="676" y="0"/>
                    <a:pt x="615" y="0"/>
                  </a:cubicBezTo>
                  <a:cubicBezTo>
                    <a:pt x="553" y="0"/>
                    <a:pt x="504" y="49"/>
                    <a:pt x="504" y="111"/>
                  </a:cubicBezTo>
                  <a:cubicBezTo>
                    <a:pt x="504" y="576"/>
                    <a:pt x="504" y="576"/>
                    <a:pt x="504" y="576"/>
                  </a:cubicBezTo>
                  <a:cubicBezTo>
                    <a:pt x="425" y="487"/>
                    <a:pt x="321" y="390"/>
                    <a:pt x="188" y="302"/>
                  </a:cubicBezTo>
                  <a:cubicBezTo>
                    <a:pt x="137" y="268"/>
                    <a:pt x="68" y="282"/>
                    <a:pt x="34" y="333"/>
                  </a:cubicBezTo>
                  <a:cubicBezTo>
                    <a:pt x="0" y="385"/>
                    <a:pt x="14" y="454"/>
                    <a:pt x="65" y="487"/>
                  </a:cubicBezTo>
                  <a:cubicBezTo>
                    <a:pt x="345" y="673"/>
                    <a:pt x="475" y="906"/>
                    <a:pt x="504" y="961"/>
                  </a:cubicBezTo>
                  <a:cubicBezTo>
                    <a:pt x="504" y="1415"/>
                    <a:pt x="504" y="1415"/>
                    <a:pt x="504" y="1415"/>
                  </a:cubicBezTo>
                  <a:cubicBezTo>
                    <a:pt x="504" y="1417"/>
                    <a:pt x="504" y="1419"/>
                    <a:pt x="504" y="1421"/>
                  </a:cubicBezTo>
                  <a:cubicBezTo>
                    <a:pt x="505" y="1426"/>
                    <a:pt x="505" y="1430"/>
                    <a:pt x="506" y="1434"/>
                  </a:cubicBezTo>
                  <a:cubicBezTo>
                    <a:pt x="506" y="1437"/>
                    <a:pt x="507" y="1440"/>
                    <a:pt x="508" y="1443"/>
                  </a:cubicBezTo>
                  <a:cubicBezTo>
                    <a:pt x="509" y="1447"/>
                    <a:pt x="510" y="1451"/>
                    <a:pt x="511" y="1455"/>
                  </a:cubicBezTo>
                  <a:cubicBezTo>
                    <a:pt x="513" y="1458"/>
                    <a:pt x="514" y="1461"/>
                    <a:pt x="515" y="1464"/>
                  </a:cubicBezTo>
                  <a:cubicBezTo>
                    <a:pt x="517" y="1467"/>
                    <a:pt x="519" y="1470"/>
                    <a:pt x="521" y="1474"/>
                  </a:cubicBezTo>
                  <a:cubicBezTo>
                    <a:pt x="523" y="1477"/>
                    <a:pt x="525" y="1479"/>
                    <a:pt x="527" y="1482"/>
                  </a:cubicBezTo>
                  <a:cubicBezTo>
                    <a:pt x="529" y="1485"/>
                    <a:pt x="531" y="1488"/>
                    <a:pt x="534" y="1491"/>
                  </a:cubicBezTo>
                  <a:cubicBezTo>
                    <a:pt x="536" y="1493"/>
                    <a:pt x="538" y="1495"/>
                    <a:pt x="541" y="1497"/>
                  </a:cubicBezTo>
                  <a:cubicBezTo>
                    <a:pt x="544" y="1500"/>
                    <a:pt x="547" y="1502"/>
                    <a:pt x="550" y="1505"/>
                  </a:cubicBezTo>
                  <a:cubicBezTo>
                    <a:pt x="552" y="1507"/>
                    <a:pt x="555" y="1508"/>
                    <a:pt x="558" y="1510"/>
                  </a:cubicBezTo>
                  <a:cubicBezTo>
                    <a:pt x="561" y="1512"/>
                    <a:pt x="565" y="1514"/>
                    <a:pt x="568" y="1515"/>
                  </a:cubicBezTo>
                  <a:cubicBezTo>
                    <a:pt x="571" y="1517"/>
                    <a:pt x="574" y="1518"/>
                    <a:pt x="578" y="1519"/>
                  </a:cubicBezTo>
                  <a:cubicBezTo>
                    <a:pt x="581" y="1521"/>
                    <a:pt x="585" y="1522"/>
                    <a:pt x="588" y="1523"/>
                  </a:cubicBezTo>
                  <a:cubicBezTo>
                    <a:pt x="592" y="1524"/>
                    <a:pt x="596" y="1524"/>
                    <a:pt x="600" y="1525"/>
                  </a:cubicBezTo>
                  <a:cubicBezTo>
                    <a:pt x="602" y="1525"/>
                    <a:pt x="604" y="1526"/>
                    <a:pt x="606" y="1526"/>
                  </a:cubicBezTo>
                  <a:cubicBezTo>
                    <a:pt x="609" y="1526"/>
                    <a:pt x="612" y="1526"/>
                    <a:pt x="615" y="1526"/>
                  </a:cubicBezTo>
                  <a:cubicBezTo>
                    <a:pt x="615" y="1526"/>
                    <a:pt x="615" y="1526"/>
                    <a:pt x="615" y="1526"/>
                  </a:cubicBezTo>
                  <a:cubicBezTo>
                    <a:pt x="615" y="1526"/>
                    <a:pt x="615" y="1526"/>
                    <a:pt x="615" y="1526"/>
                  </a:cubicBezTo>
                  <a:cubicBezTo>
                    <a:pt x="615" y="1526"/>
                    <a:pt x="615" y="1526"/>
                    <a:pt x="615" y="1526"/>
                  </a:cubicBezTo>
                  <a:cubicBezTo>
                    <a:pt x="622" y="1526"/>
                    <a:pt x="630" y="1525"/>
                    <a:pt x="637" y="1524"/>
                  </a:cubicBezTo>
                  <a:cubicBezTo>
                    <a:pt x="639" y="1523"/>
                    <a:pt x="642" y="1522"/>
                    <a:pt x="644" y="1522"/>
                  </a:cubicBezTo>
                  <a:cubicBezTo>
                    <a:pt x="649" y="1521"/>
                    <a:pt x="653" y="1519"/>
                    <a:pt x="657" y="1518"/>
                  </a:cubicBezTo>
                  <a:cubicBezTo>
                    <a:pt x="660" y="1517"/>
                    <a:pt x="663" y="1515"/>
                    <a:pt x="666" y="1513"/>
                  </a:cubicBezTo>
                  <a:cubicBezTo>
                    <a:pt x="669" y="1512"/>
                    <a:pt x="672" y="1510"/>
                    <a:pt x="675" y="1508"/>
                  </a:cubicBezTo>
                  <a:cubicBezTo>
                    <a:pt x="678" y="1506"/>
                    <a:pt x="681" y="1504"/>
                    <a:pt x="683" y="1502"/>
                  </a:cubicBezTo>
                  <a:cubicBezTo>
                    <a:pt x="686" y="1500"/>
                    <a:pt x="689" y="1498"/>
                    <a:pt x="692" y="1495"/>
                  </a:cubicBezTo>
                  <a:cubicBezTo>
                    <a:pt x="694" y="1493"/>
                    <a:pt x="696" y="1490"/>
                    <a:pt x="698" y="1488"/>
                  </a:cubicBezTo>
                  <a:cubicBezTo>
                    <a:pt x="701" y="1485"/>
                    <a:pt x="703" y="1482"/>
                    <a:pt x="705" y="1479"/>
                  </a:cubicBezTo>
                  <a:cubicBezTo>
                    <a:pt x="707" y="1477"/>
                    <a:pt x="709" y="1474"/>
                    <a:pt x="711" y="1471"/>
                  </a:cubicBezTo>
                  <a:cubicBezTo>
                    <a:pt x="712" y="1468"/>
                    <a:pt x="714" y="1465"/>
                    <a:pt x="716" y="1461"/>
                  </a:cubicBezTo>
                  <a:cubicBezTo>
                    <a:pt x="717" y="1458"/>
                    <a:pt x="718" y="1455"/>
                    <a:pt x="719" y="1451"/>
                  </a:cubicBezTo>
                  <a:cubicBezTo>
                    <a:pt x="721" y="1448"/>
                    <a:pt x="722" y="1445"/>
                    <a:pt x="723" y="1441"/>
                  </a:cubicBezTo>
                  <a:cubicBezTo>
                    <a:pt x="723" y="1438"/>
                    <a:pt x="724" y="1434"/>
                    <a:pt x="725" y="1430"/>
                  </a:cubicBezTo>
                  <a:cubicBezTo>
                    <a:pt x="725" y="1428"/>
                    <a:pt x="725" y="1426"/>
                    <a:pt x="726" y="1423"/>
                  </a:cubicBezTo>
                  <a:cubicBezTo>
                    <a:pt x="741" y="1216"/>
                    <a:pt x="855" y="927"/>
                    <a:pt x="1305" y="722"/>
                  </a:cubicBezTo>
                  <a:cubicBezTo>
                    <a:pt x="1361" y="697"/>
                    <a:pt x="1385" y="631"/>
                    <a:pt x="1360" y="575"/>
                  </a:cubicBez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602640" y="269280"/>
              <a:ext cx="142560" cy="150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175" h="1245">
                  <a:moveTo>
                    <a:pt x="1051" y="639"/>
                  </a:moveTo>
                  <a:cubicBezTo>
                    <a:pt x="1135" y="589"/>
                    <a:pt x="1175" y="524"/>
                    <a:pt x="1175" y="460"/>
                  </a:cubicBezTo>
                  <a:cubicBezTo>
                    <a:pt x="1175" y="384"/>
                    <a:pt x="1116" y="303"/>
                    <a:pt x="989" y="303"/>
                  </a:cubicBezTo>
                  <a:cubicBezTo>
                    <a:pt x="970" y="303"/>
                    <a:pt x="949" y="305"/>
                    <a:pt x="928" y="308"/>
                  </a:cubicBezTo>
                  <a:cubicBezTo>
                    <a:pt x="944" y="248"/>
                    <a:pt x="942" y="194"/>
                    <a:pt x="924" y="148"/>
                  </a:cubicBezTo>
                  <a:cubicBezTo>
                    <a:pt x="876" y="33"/>
                    <a:pt x="720" y="0"/>
                    <a:pt x="607" y="162"/>
                  </a:cubicBezTo>
                  <a:cubicBezTo>
                    <a:pt x="592" y="137"/>
                    <a:pt x="576" y="116"/>
                    <a:pt x="558" y="99"/>
                  </a:cubicBezTo>
                  <a:cubicBezTo>
                    <a:pt x="509" y="49"/>
                    <a:pt x="460" y="39"/>
                    <a:pt x="428" y="39"/>
                  </a:cubicBezTo>
                  <a:cubicBezTo>
                    <a:pt x="369" y="39"/>
                    <a:pt x="315" y="75"/>
                    <a:pt x="289" y="132"/>
                  </a:cubicBezTo>
                  <a:cubicBezTo>
                    <a:pt x="270" y="175"/>
                    <a:pt x="266" y="227"/>
                    <a:pt x="276" y="286"/>
                  </a:cubicBezTo>
                  <a:cubicBezTo>
                    <a:pt x="249" y="279"/>
                    <a:pt x="222" y="275"/>
                    <a:pt x="197" y="275"/>
                  </a:cubicBezTo>
                  <a:cubicBezTo>
                    <a:pt x="79" y="275"/>
                    <a:pt x="22" y="353"/>
                    <a:pt x="20" y="425"/>
                  </a:cubicBezTo>
                  <a:cubicBezTo>
                    <a:pt x="18" y="487"/>
                    <a:pt x="53" y="552"/>
                    <a:pt x="131" y="606"/>
                  </a:cubicBezTo>
                  <a:cubicBezTo>
                    <a:pt x="86" y="633"/>
                    <a:pt x="52" y="665"/>
                    <a:pt x="31" y="702"/>
                  </a:cubicBezTo>
                  <a:cubicBezTo>
                    <a:pt x="1" y="753"/>
                    <a:pt x="0" y="812"/>
                    <a:pt x="27" y="860"/>
                  </a:cubicBezTo>
                  <a:cubicBezTo>
                    <a:pt x="66" y="926"/>
                    <a:pt x="152" y="955"/>
                    <a:pt x="254" y="937"/>
                  </a:cubicBezTo>
                  <a:cubicBezTo>
                    <a:pt x="238" y="997"/>
                    <a:pt x="240" y="1052"/>
                    <a:pt x="258" y="1097"/>
                  </a:cubicBezTo>
                  <a:cubicBezTo>
                    <a:pt x="306" y="1212"/>
                    <a:pt x="461" y="1245"/>
                    <a:pt x="575" y="1084"/>
                  </a:cubicBezTo>
                  <a:cubicBezTo>
                    <a:pt x="590" y="1108"/>
                    <a:pt x="606" y="1129"/>
                    <a:pt x="624" y="1147"/>
                  </a:cubicBezTo>
                  <a:cubicBezTo>
                    <a:pt x="673" y="1196"/>
                    <a:pt x="721" y="1206"/>
                    <a:pt x="754" y="1206"/>
                  </a:cubicBezTo>
                  <a:cubicBezTo>
                    <a:pt x="754" y="1206"/>
                    <a:pt x="754" y="1206"/>
                    <a:pt x="754" y="1206"/>
                  </a:cubicBezTo>
                  <a:cubicBezTo>
                    <a:pt x="814" y="1206"/>
                    <a:pt x="867" y="1171"/>
                    <a:pt x="893" y="1114"/>
                  </a:cubicBezTo>
                  <a:cubicBezTo>
                    <a:pt x="912" y="1070"/>
                    <a:pt x="916" y="1018"/>
                    <a:pt x="906" y="960"/>
                  </a:cubicBezTo>
                  <a:cubicBezTo>
                    <a:pt x="933" y="967"/>
                    <a:pt x="960" y="970"/>
                    <a:pt x="985" y="970"/>
                  </a:cubicBezTo>
                  <a:cubicBezTo>
                    <a:pt x="985" y="970"/>
                    <a:pt x="985" y="970"/>
                    <a:pt x="985" y="970"/>
                  </a:cubicBezTo>
                  <a:cubicBezTo>
                    <a:pt x="1103" y="970"/>
                    <a:pt x="1160" y="892"/>
                    <a:pt x="1162" y="820"/>
                  </a:cubicBezTo>
                  <a:cubicBezTo>
                    <a:pt x="1164" y="758"/>
                    <a:pt x="1129" y="693"/>
                    <a:pt x="1051" y="639"/>
                  </a:cubicBezTo>
                  <a:close/>
                  <a:moveTo>
                    <a:pt x="966" y="752"/>
                  </a:moveTo>
                  <a:cubicBezTo>
                    <a:pt x="965" y="800"/>
                    <a:pt x="928" y="851"/>
                    <a:pt x="850" y="851"/>
                  </a:cubicBezTo>
                  <a:cubicBezTo>
                    <a:pt x="850" y="851"/>
                    <a:pt x="850" y="851"/>
                    <a:pt x="850" y="851"/>
                  </a:cubicBezTo>
                  <a:cubicBezTo>
                    <a:pt x="833" y="851"/>
                    <a:pt x="816" y="849"/>
                    <a:pt x="798" y="844"/>
                  </a:cubicBezTo>
                  <a:cubicBezTo>
                    <a:pt x="805" y="883"/>
                    <a:pt x="802" y="917"/>
                    <a:pt x="789" y="945"/>
                  </a:cubicBezTo>
                  <a:cubicBezTo>
                    <a:pt x="772" y="983"/>
                    <a:pt x="737" y="1006"/>
                    <a:pt x="698" y="1006"/>
                  </a:cubicBezTo>
                  <a:cubicBezTo>
                    <a:pt x="698" y="1006"/>
                    <a:pt x="698" y="1006"/>
                    <a:pt x="698" y="1006"/>
                  </a:cubicBezTo>
                  <a:cubicBezTo>
                    <a:pt x="677" y="1006"/>
                    <a:pt x="645" y="999"/>
                    <a:pt x="612" y="967"/>
                  </a:cubicBezTo>
                  <a:cubicBezTo>
                    <a:pt x="601" y="955"/>
                    <a:pt x="590" y="942"/>
                    <a:pt x="581" y="926"/>
                  </a:cubicBezTo>
                  <a:cubicBezTo>
                    <a:pt x="506" y="1032"/>
                    <a:pt x="404" y="1010"/>
                    <a:pt x="373" y="935"/>
                  </a:cubicBezTo>
                  <a:cubicBezTo>
                    <a:pt x="360" y="905"/>
                    <a:pt x="359" y="869"/>
                    <a:pt x="369" y="829"/>
                  </a:cubicBezTo>
                  <a:cubicBezTo>
                    <a:pt x="302" y="841"/>
                    <a:pt x="246" y="822"/>
                    <a:pt x="221" y="778"/>
                  </a:cubicBezTo>
                  <a:cubicBezTo>
                    <a:pt x="203" y="747"/>
                    <a:pt x="203" y="708"/>
                    <a:pt x="223" y="675"/>
                  </a:cubicBezTo>
                  <a:cubicBezTo>
                    <a:pt x="237" y="651"/>
                    <a:pt x="259" y="630"/>
                    <a:pt x="289" y="612"/>
                  </a:cubicBezTo>
                  <a:cubicBezTo>
                    <a:pt x="238" y="576"/>
                    <a:pt x="214" y="534"/>
                    <a:pt x="216" y="493"/>
                  </a:cubicBezTo>
                  <a:cubicBezTo>
                    <a:pt x="217" y="445"/>
                    <a:pt x="254" y="394"/>
                    <a:pt x="332" y="394"/>
                  </a:cubicBezTo>
                  <a:cubicBezTo>
                    <a:pt x="349" y="394"/>
                    <a:pt x="366" y="397"/>
                    <a:pt x="384" y="401"/>
                  </a:cubicBezTo>
                  <a:cubicBezTo>
                    <a:pt x="377" y="363"/>
                    <a:pt x="380" y="328"/>
                    <a:pt x="393" y="300"/>
                  </a:cubicBezTo>
                  <a:cubicBezTo>
                    <a:pt x="410" y="262"/>
                    <a:pt x="445" y="239"/>
                    <a:pt x="484" y="239"/>
                  </a:cubicBezTo>
                  <a:cubicBezTo>
                    <a:pt x="505" y="239"/>
                    <a:pt x="537" y="246"/>
                    <a:pt x="570" y="278"/>
                  </a:cubicBezTo>
                  <a:cubicBezTo>
                    <a:pt x="581" y="290"/>
                    <a:pt x="592" y="304"/>
                    <a:pt x="601" y="320"/>
                  </a:cubicBezTo>
                  <a:cubicBezTo>
                    <a:pt x="676" y="214"/>
                    <a:pt x="778" y="235"/>
                    <a:pt x="810" y="311"/>
                  </a:cubicBezTo>
                  <a:cubicBezTo>
                    <a:pt x="822" y="341"/>
                    <a:pt x="823" y="376"/>
                    <a:pt x="813" y="416"/>
                  </a:cubicBezTo>
                  <a:cubicBezTo>
                    <a:pt x="827" y="414"/>
                    <a:pt x="840" y="412"/>
                    <a:pt x="853" y="412"/>
                  </a:cubicBezTo>
                  <a:cubicBezTo>
                    <a:pt x="936" y="412"/>
                    <a:pt x="975" y="466"/>
                    <a:pt x="975" y="516"/>
                  </a:cubicBezTo>
                  <a:cubicBezTo>
                    <a:pt x="975" y="558"/>
                    <a:pt x="948" y="600"/>
                    <a:pt x="893" y="633"/>
                  </a:cubicBezTo>
                  <a:cubicBezTo>
                    <a:pt x="944" y="669"/>
                    <a:pt x="968" y="712"/>
                    <a:pt x="966" y="752"/>
                  </a:cubicBezTo>
                  <a:close/>
                </a:path>
              </a:pathLst>
            </a:custGeom>
            <a:solidFill>
              <a:srgbClr val="ffe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569520" y="530280"/>
              <a:ext cx="209160" cy="55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724" h="463">
                  <a:moveTo>
                    <a:pt x="1602" y="454"/>
                  </a:moveTo>
                  <a:cubicBezTo>
                    <a:pt x="1573" y="454"/>
                    <a:pt x="1544" y="443"/>
                    <a:pt x="1522" y="420"/>
                  </a:cubicBezTo>
                  <a:cubicBezTo>
                    <a:pt x="1405" y="300"/>
                    <a:pt x="1146" y="223"/>
                    <a:pt x="861" y="223"/>
                  </a:cubicBezTo>
                  <a:cubicBezTo>
                    <a:pt x="578" y="223"/>
                    <a:pt x="319" y="300"/>
                    <a:pt x="202" y="419"/>
                  </a:cubicBezTo>
                  <a:cubicBezTo>
                    <a:pt x="159" y="463"/>
                    <a:pt x="88" y="463"/>
                    <a:pt x="44" y="420"/>
                  </a:cubicBezTo>
                  <a:cubicBezTo>
                    <a:pt x="1" y="377"/>
                    <a:pt x="0" y="306"/>
                    <a:pt x="43" y="263"/>
                  </a:cubicBezTo>
                  <a:cubicBezTo>
                    <a:pt x="203" y="101"/>
                    <a:pt x="516" y="0"/>
                    <a:pt x="861" y="0"/>
                  </a:cubicBezTo>
                  <a:cubicBezTo>
                    <a:pt x="1208" y="0"/>
                    <a:pt x="1522" y="102"/>
                    <a:pt x="1681" y="266"/>
                  </a:cubicBezTo>
                  <a:cubicBezTo>
                    <a:pt x="1724" y="310"/>
                    <a:pt x="1723" y="380"/>
                    <a:pt x="1679" y="423"/>
                  </a:cubicBezTo>
                  <a:cubicBezTo>
                    <a:pt x="1657" y="444"/>
                    <a:pt x="1629" y="454"/>
                    <a:pt x="1602" y="454"/>
                  </a:cubicBezTo>
                  <a:close/>
                </a:path>
              </a:pathLst>
            </a:custGeom>
            <a:solidFill>
              <a:srgbClr val="ffe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648720" y="318960"/>
              <a:ext cx="51120" cy="50040"/>
            </a:xfrm>
            <a:prstGeom prst="ellipse">
              <a:avLst/>
            </a:prstGeom>
            <a:solidFill>
              <a:srgbClr val="f8b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TextBox 105"/>
          <p:cNvSpPr/>
          <p:nvPr/>
        </p:nvSpPr>
        <p:spPr>
          <a:xfrm>
            <a:off x="755640" y="255600"/>
            <a:ext cx="1154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向阳的</a:t>
            </a:r>
            <a:r>
              <a:rPr b="0" lang="zh-CN" sz="105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小七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06"/>
          <p:cNvSpPr/>
          <p:nvPr/>
        </p:nvSpPr>
        <p:spPr>
          <a:xfrm>
            <a:off x="745560" y="406440"/>
            <a:ext cx="11109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Sunshine s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5"/>
          <p:cNvSpPr/>
          <p:nvPr/>
        </p:nvSpPr>
        <p:spPr>
          <a:xfrm>
            <a:off x="-29160" y="0"/>
            <a:ext cx="9171000" cy="51595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0d0d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83" name="组合 108"/>
          <p:cNvGrpSpPr/>
          <p:nvPr/>
        </p:nvGrpSpPr>
        <p:grpSpPr>
          <a:xfrm>
            <a:off x="6769080" y="-272880"/>
            <a:ext cx="2656800" cy="1967760"/>
            <a:chOff x="6769080" y="-272880"/>
            <a:chExt cx="2656800" cy="1967760"/>
          </a:xfrm>
        </p:grpSpPr>
        <p:sp>
          <p:nvSpPr>
            <p:cNvPr id="184" name="等腰三角形 27"/>
            <p:cNvSpPr/>
            <p:nvPr/>
          </p:nvSpPr>
          <p:spPr>
            <a:xfrm flipH="1">
              <a:off x="8196120" y="99756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5" name="等腰三角形 28"/>
            <p:cNvSpPr/>
            <p:nvPr/>
          </p:nvSpPr>
          <p:spPr>
            <a:xfrm flipH="1">
              <a:off x="7313400" y="99756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6" name="等腰三角形 29"/>
            <p:cNvSpPr/>
            <p:nvPr/>
          </p:nvSpPr>
          <p:spPr>
            <a:xfrm flipH="1" flipV="1">
              <a:off x="8633880" y="99684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等腰三角形 30"/>
            <p:cNvSpPr/>
            <p:nvPr/>
          </p:nvSpPr>
          <p:spPr>
            <a:xfrm flipH="1" flipV="1">
              <a:off x="7754400" y="99684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等腰三角形 31"/>
            <p:cNvSpPr/>
            <p:nvPr/>
          </p:nvSpPr>
          <p:spPr>
            <a:xfrm flipH="1">
              <a:off x="8530560" y="26784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等腰三角形 32"/>
            <p:cNvSpPr/>
            <p:nvPr/>
          </p:nvSpPr>
          <p:spPr>
            <a:xfrm flipH="1">
              <a:off x="7651440" y="26784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等腰三角形 33"/>
            <p:cNvSpPr/>
            <p:nvPr/>
          </p:nvSpPr>
          <p:spPr>
            <a:xfrm flipH="1">
              <a:off x="6768720" y="26784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等腰三角形 34"/>
            <p:cNvSpPr/>
            <p:nvPr/>
          </p:nvSpPr>
          <p:spPr>
            <a:xfrm flipH="1" flipV="1">
              <a:off x="7210440" y="25668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等腰三角形 35"/>
            <p:cNvSpPr/>
            <p:nvPr/>
          </p:nvSpPr>
          <p:spPr>
            <a:xfrm flipH="1" flipV="1">
              <a:off x="8093160" y="25668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等腰三角形 30"/>
            <p:cNvSpPr/>
            <p:nvPr/>
          </p:nvSpPr>
          <p:spPr>
            <a:xfrm flipH="1" flipV="1">
              <a:off x="8978040" y="256680"/>
              <a:ext cx="400680" cy="697320"/>
            </a:xfrm>
            <a:custGeom>
              <a:avLst/>
              <a:gdLst>
                <a:gd name="textAreaLeft" fmla="*/ -360 w 400680"/>
                <a:gd name="textAreaRight" fmla="*/ 400680 w 400680"/>
                <a:gd name="textAreaTop" fmla="*/ -360 h 697320"/>
                <a:gd name="textAreaBottom" fmla="*/ 697320 h 697320"/>
              </a:gdLst>
              <a:ahLst/>
              <a:rect l="textAreaLeft" t="textAreaTop" r="textAreaRight" b="textAreaBottom"/>
              <a:pathLst>
                <a:path w="401161" h="697576">
                  <a:moveTo>
                    <a:pt x="0" y="697576"/>
                  </a:moveTo>
                  <a:lnTo>
                    <a:pt x="401161" y="697576"/>
                  </a:lnTo>
                  <a:lnTo>
                    <a:pt x="5117" y="0"/>
                  </a:lnTo>
                  <a:lnTo>
                    <a:pt x="0" y="9013"/>
                  </a:lnTo>
                  <a:close/>
                </a:path>
              </a:pathLst>
            </a:cu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4" name="等腰三角形 34"/>
            <p:cNvSpPr/>
            <p:nvPr/>
          </p:nvSpPr>
          <p:spPr>
            <a:xfrm flipH="1">
              <a:off x="8829360" y="-272880"/>
              <a:ext cx="295200" cy="494640"/>
            </a:xfrm>
            <a:custGeom>
              <a:avLst/>
              <a:gdLst>
                <a:gd name="textAreaLeft" fmla="*/ 360 w 295200"/>
                <a:gd name="textAreaRight" fmla="*/ 295920 w 2952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95607" h="494881">
                  <a:moveTo>
                    <a:pt x="14642" y="0"/>
                  </a:moveTo>
                  <a:lnTo>
                    <a:pt x="295607" y="494881"/>
                  </a:lnTo>
                  <a:lnTo>
                    <a:pt x="0" y="494881"/>
                  </a:lnTo>
                  <a:lnTo>
                    <a:pt x="0" y="25790"/>
                  </a:lnTo>
                  <a:close/>
                </a:path>
              </a:pathLst>
            </a:cu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等腰三角形 63"/>
            <p:cNvSpPr/>
            <p:nvPr/>
          </p:nvSpPr>
          <p:spPr>
            <a:xfrm flipH="1" flipV="1">
              <a:off x="8933040" y="1065600"/>
              <a:ext cx="212040" cy="366120"/>
            </a:xfrm>
            <a:custGeom>
              <a:avLst/>
              <a:gdLst>
                <a:gd name="textAreaLeft" fmla="*/ -360 w 212040"/>
                <a:gd name="textAreaRight" fmla="*/ 212040 w 212040"/>
                <a:gd name="textAreaTop" fmla="*/ -360 h 366120"/>
                <a:gd name="textAreaBottom" fmla="*/ 366120 h 366120"/>
              </a:gdLst>
              <a:ahLst/>
              <a:rect l="textAreaLeft" t="textAreaTop" r="textAreaRight" b="textAreaBottom"/>
              <a:pathLst>
                <a:path w="212556" h="366481">
                  <a:moveTo>
                    <a:pt x="212556" y="366481"/>
                  </a:moveTo>
                  <a:lnTo>
                    <a:pt x="0" y="366481"/>
                  </a:lnTo>
                  <a:lnTo>
                    <a:pt x="0" y="7907"/>
                  </a:lnTo>
                  <a:lnTo>
                    <a:pt x="4489" y="0"/>
                  </a:lnTo>
                  <a:close/>
                </a:path>
              </a:pathLst>
            </a:custGeom>
            <a:solidFill>
              <a:srgbClr val="0686c8">
                <a:alpha val="7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等腰三角形 84"/>
            <p:cNvSpPr/>
            <p:nvPr/>
          </p:nvSpPr>
          <p:spPr>
            <a:xfrm flipH="1" flipV="1">
              <a:off x="8417880" y="106560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7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等腰三角形 85"/>
            <p:cNvSpPr/>
            <p:nvPr/>
          </p:nvSpPr>
          <p:spPr>
            <a:xfrm flipH="1" flipV="1">
              <a:off x="8649720" y="67860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3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8" name="等腰三角形 86"/>
            <p:cNvSpPr/>
            <p:nvPr/>
          </p:nvSpPr>
          <p:spPr>
            <a:xfrm flipH="1" flipV="1">
              <a:off x="8186040" y="67860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3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等腰三角形 67"/>
            <p:cNvSpPr/>
            <p:nvPr/>
          </p:nvSpPr>
          <p:spPr>
            <a:xfrm flipH="1" flipV="1">
              <a:off x="8879760" y="280080"/>
              <a:ext cx="261720" cy="366120"/>
            </a:xfrm>
            <a:custGeom>
              <a:avLst/>
              <a:gdLst>
                <a:gd name="textAreaLeft" fmla="*/ -360 w 261720"/>
                <a:gd name="textAreaRight" fmla="*/ 261720 w 261720"/>
                <a:gd name="textAreaTop" fmla="*/ -360 h 366120"/>
                <a:gd name="textAreaBottom" fmla="*/ 366120 h 366120"/>
              </a:gdLst>
              <a:ahLst/>
              <a:rect l="textAreaLeft" t="textAreaTop" r="textAreaRight" b="textAreaBottom"/>
              <a:pathLst>
                <a:path w="262111" h="366481">
                  <a:moveTo>
                    <a:pt x="262111" y="366481"/>
                  </a:moveTo>
                  <a:lnTo>
                    <a:pt x="0" y="366481"/>
                  </a:lnTo>
                  <a:lnTo>
                    <a:pt x="0" y="95191"/>
                  </a:lnTo>
                  <a:lnTo>
                    <a:pt x="54044" y="0"/>
                  </a:lnTo>
                  <a:close/>
                </a:path>
              </a:pathLst>
            </a:custGeom>
            <a:solidFill>
              <a:srgbClr val="0686c8">
                <a:alpha val="4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" name="等腰三角形 88"/>
            <p:cNvSpPr/>
            <p:nvPr/>
          </p:nvSpPr>
          <p:spPr>
            <a:xfrm flipH="1" flipV="1">
              <a:off x="8417880" y="28008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7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1" name="等腰三角形 89"/>
            <p:cNvSpPr/>
            <p:nvPr/>
          </p:nvSpPr>
          <p:spPr>
            <a:xfrm flipH="1" flipV="1">
              <a:off x="7953840" y="28008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3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等腰三角形 70"/>
            <p:cNvSpPr/>
            <p:nvPr/>
          </p:nvSpPr>
          <p:spPr>
            <a:xfrm flipH="1">
              <a:off x="8880480" y="679320"/>
              <a:ext cx="265680" cy="366120"/>
            </a:xfrm>
            <a:custGeom>
              <a:avLst/>
              <a:gdLst>
                <a:gd name="textAreaLeft" fmla="*/ 360 w 265680"/>
                <a:gd name="textAreaRight" fmla="*/ 266400 w 26568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65932" h="366481">
                  <a:moveTo>
                    <a:pt x="57865" y="0"/>
                  </a:moveTo>
                  <a:lnTo>
                    <a:pt x="0" y="101921"/>
                  </a:lnTo>
                  <a:lnTo>
                    <a:pt x="0" y="366481"/>
                  </a:lnTo>
                  <a:lnTo>
                    <a:pt x="265932" y="366481"/>
                  </a:lnTo>
                  <a:close/>
                </a:path>
              </a:pathLst>
            </a:cu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3" name="等腰三角形 91"/>
            <p:cNvSpPr/>
            <p:nvPr/>
          </p:nvSpPr>
          <p:spPr>
            <a:xfrm flipH="1">
              <a:off x="8186040" y="28620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6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等腰三角形 31"/>
            <p:cNvSpPr/>
            <p:nvPr/>
          </p:nvSpPr>
          <p:spPr>
            <a:xfrm flipH="1">
              <a:off x="8875440" y="6120"/>
              <a:ext cx="270720" cy="254160"/>
            </a:xfrm>
            <a:custGeom>
              <a:avLst/>
              <a:gdLst>
                <a:gd name="textAreaLeft" fmla="*/ 360 w 270720"/>
                <a:gd name="textAreaRight" fmla="*/ 271440 w 2707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70936" h="254416">
                  <a:moveTo>
                    <a:pt x="126493" y="0"/>
                  </a:moveTo>
                  <a:lnTo>
                    <a:pt x="0" y="0"/>
                  </a:lnTo>
                  <a:lnTo>
                    <a:pt x="0" y="254416"/>
                  </a:lnTo>
                  <a:lnTo>
                    <a:pt x="270936" y="254416"/>
                  </a:lnTo>
                  <a:close/>
                </a:path>
              </a:pathLst>
            </a:custGeom>
            <a:solidFill>
              <a:srgbClr val="0686c8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等腰三角形 32"/>
            <p:cNvSpPr/>
            <p:nvPr/>
          </p:nvSpPr>
          <p:spPr>
            <a:xfrm flipH="1">
              <a:off x="8417880" y="6120"/>
              <a:ext cx="415800" cy="254160"/>
            </a:xfrm>
            <a:custGeom>
              <a:avLst/>
              <a:gdLst>
                <a:gd name="textAreaLeft" fmla="*/ -360 w 415800"/>
                <a:gd name="textAreaRight" fmla="*/ 415800 w 4158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792088" h="484268">
                  <a:moveTo>
                    <a:pt x="0" y="484268"/>
                  </a:moveTo>
                  <a:lnTo>
                    <a:pt x="792088" y="484268"/>
                  </a:lnTo>
                  <a:lnTo>
                    <a:pt x="517148" y="0"/>
                  </a:lnTo>
                  <a:lnTo>
                    <a:pt x="274940" y="0"/>
                  </a:lnTo>
                  <a:close/>
                </a:path>
              </a:pathLst>
            </a:custGeom>
            <a:solidFill>
              <a:srgbClr val="0686c8">
                <a:alpha val="3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等腰三角形 33"/>
            <p:cNvSpPr/>
            <p:nvPr/>
          </p:nvSpPr>
          <p:spPr>
            <a:xfrm flipH="1">
              <a:off x="7953840" y="6120"/>
              <a:ext cx="415800" cy="254160"/>
            </a:xfrm>
            <a:custGeom>
              <a:avLst/>
              <a:gdLst>
                <a:gd name="textAreaLeft" fmla="*/ -360 w 415800"/>
                <a:gd name="textAreaRight" fmla="*/ 415800 w 4158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792088" h="484268">
                  <a:moveTo>
                    <a:pt x="0" y="484268"/>
                  </a:moveTo>
                  <a:lnTo>
                    <a:pt x="792088" y="484268"/>
                  </a:lnTo>
                  <a:lnTo>
                    <a:pt x="517148" y="0"/>
                  </a:lnTo>
                  <a:lnTo>
                    <a:pt x="274940" y="0"/>
                  </a:lnTo>
                  <a:close/>
                </a:path>
              </a:pathLst>
            </a:custGeom>
            <a:solidFill>
              <a:srgbClr val="0686c8">
                <a:alpha val="7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等腰三角形 35"/>
            <p:cNvSpPr/>
            <p:nvPr/>
          </p:nvSpPr>
          <p:spPr>
            <a:xfrm flipH="1" flipV="1">
              <a:off x="8710200" y="5400"/>
              <a:ext cx="294840" cy="259560"/>
            </a:xfrm>
            <a:custGeom>
              <a:avLst/>
              <a:gdLst>
                <a:gd name="textAreaLeft" fmla="*/ -360 w 294840"/>
                <a:gd name="textAreaRight" fmla="*/ 294840 w 294840"/>
                <a:gd name="textAreaTop" fmla="*/ -360 h 259560"/>
                <a:gd name="textAreaBottom" fmla="*/ 259560 h 259560"/>
              </a:gdLst>
              <a:ahLst/>
              <a:rect l="textAreaLeft" t="textAreaTop" r="textAreaRight" b="textAreaBottom"/>
              <a:pathLst>
                <a:path w="561930" h="494881">
                  <a:moveTo>
                    <a:pt x="280965" y="0"/>
                  </a:moveTo>
                  <a:lnTo>
                    <a:pt x="561930" y="494881"/>
                  </a:lnTo>
                  <a:lnTo>
                    <a:pt x="0" y="494881"/>
                  </a:lnTo>
                  <a:close/>
                </a:path>
              </a:pathLst>
            </a:custGeom>
            <a:solidFill>
              <a:srgbClr val="0686c8">
                <a:alpha val="2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等腰三角形 36"/>
            <p:cNvSpPr/>
            <p:nvPr/>
          </p:nvSpPr>
          <p:spPr>
            <a:xfrm flipH="1" flipV="1">
              <a:off x="8246520" y="5400"/>
              <a:ext cx="294840" cy="259560"/>
            </a:xfrm>
            <a:custGeom>
              <a:avLst/>
              <a:gdLst>
                <a:gd name="textAreaLeft" fmla="*/ -360 w 294840"/>
                <a:gd name="textAreaRight" fmla="*/ 294840 w 294840"/>
                <a:gd name="textAreaTop" fmla="*/ -360 h 259560"/>
                <a:gd name="textAreaBottom" fmla="*/ 259560 h 259560"/>
              </a:gdLst>
              <a:ahLst/>
              <a:rect l="textAreaLeft" t="textAreaTop" r="textAreaRight" b="textAreaBottom"/>
              <a:pathLst>
                <a:path w="561930" h="494881">
                  <a:moveTo>
                    <a:pt x="280965" y="0"/>
                  </a:moveTo>
                  <a:lnTo>
                    <a:pt x="561930" y="494881"/>
                  </a:lnTo>
                  <a:lnTo>
                    <a:pt x="0" y="494881"/>
                  </a:lnTo>
                  <a:close/>
                </a:path>
              </a:pathLst>
            </a:custGeom>
            <a:solidFill>
              <a:srgbClr val="0686c8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等腰三角形 37"/>
            <p:cNvSpPr/>
            <p:nvPr/>
          </p:nvSpPr>
          <p:spPr>
            <a:xfrm flipH="1" flipV="1">
              <a:off x="7783560" y="5400"/>
              <a:ext cx="294840" cy="259560"/>
            </a:xfrm>
            <a:custGeom>
              <a:avLst/>
              <a:gdLst>
                <a:gd name="textAreaLeft" fmla="*/ -360 w 294840"/>
                <a:gd name="textAreaRight" fmla="*/ 294840 w 294840"/>
                <a:gd name="textAreaTop" fmla="*/ -360 h 259560"/>
                <a:gd name="textAreaBottom" fmla="*/ 259560 h 259560"/>
              </a:gdLst>
              <a:ahLst/>
              <a:rect l="textAreaLeft" t="textAreaTop" r="textAreaRight" b="textAreaBottom"/>
              <a:pathLst>
                <a:path w="561930" h="494881">
                  <a:moveTo>
                    <a:pt x="280965" y="0"/>
                  </a:moveTo>
                  <a:lnTo>
                    <a:pt x="561930" y="494881"/>
                  </a:lnTo>
                  <a:lnTo>
                    <a:pt x="0" y="494881"/>
                  </a:lnTo>
                  <a:close/>
                </a:path>
              </a:pathLst>
            </a:custGeom>
            <a:solidFill>
              <a:srgbClr val="0686c8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等腰三角形 98"/>
            <p:cNvSpPr/>
            <p:nvPr/>
          </p:nvSpPr>
          <p:spPr>
            <a:xfrm flipH="1">
              <a:off x="8652600" y="28620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6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等腰三角形 99"/>
            <p:cNvSpPr/>
            <p:nvPr/>
          </p:nvSpPr>
          <p:spPr>
            <a:xfrm flipH="1">
              <a:off x="8417880" y="67932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2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2" name="组合 109"/>
          <p:cNvGrpSpPr/>
          <p:nvPr/>
        </p:nvGrpSpPr>
        <p:grpSpPr>
          <a:xfrm>
            <a:off x="-317520" y="3462840"/>
            <a:ext cx="2656800" cy="1968120"/>
            <a:chOff x="-317520" y="3462840"/>
            <a:chExt cx="2656800" cy="1968120"/>
          </a:xfrm>
        </p:grpSpPr>
        <p:sp>
          <p:nvSpPr>
            <p:cNvPr id="213" name="等腰三角形 110"/>
            <p:cNvSpPr/>
            <p:nvPr/>
          </p:nvSpPr>
          <p:spPr>
            <a:xfrm flipH="1" rot="10800000">
              <a:off x="119880" y="346320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等腰三角形 111"/>
            <p:cNvSpPr/>
            <p:nvPr/>
          </p:nvSpPr>
          <p:spPr>
            <a:xfrm flipH="1" rot="10800000">
              <a:off x="1002600" y="346320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等腰三角形 112"/>
            <p:cNvSpPr/>
            <p:nvPr/>
          </p:nvSpPr>
          <p:spPr>
            <a:xfrm flipH="1" flipV="1" rot="10800000">
              <a:off x="-317880" y="346248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等腰三角形 113"/>
            <p:cNvSpPr/>
            <p:nvPr/>
          </p:nvSpPr>
          <p:spPr>
            <a:xfrm flipH="1" flipV="1" rot="10800000">
              <a:off x="561600" y="346248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等腰三角形 114"/>
            <p:cNvSpPr/>
            <p:nvPr/>
          </p:nvSpPr>
          <p:spPr>
            <a:xfrm flipH="1" rot="10800000">
              <a:off x="-214560" y="419256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8" name="等腰三角形 115"/>
            <p:cNvSpPr/>
            <p:nvPr/>
          </p:nvSpPr>
          <p:spPr>
            <a:xfrm flipH="1" rot="10800000">
              <a:off x="664560" y="419256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等腰三角形 116"/>
            <p:cNvSpPr/>
            <p:nvPr/>
          </p:nvSpPr>
          <p:spPr>
            <a:xfrm flipH="1" rot="10800000">
              <a:off x="1547280" y="419256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等腰三角形 117"/>
            <p:cNvSpPr/>
            <p:nvPr/>
          </p:nvSpPr>
          <p:spPr>
            <a:xfrm flipH="1" flipV="1" rot="10800000">
              <a:off x="1105560" y="420264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1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等腰三角形 118"/>
            <p:cNvSpPr/>
            <p:nvPr/>
          </p:nvSpPr>
          <p:spPr>
            <a:xfrm flipH="1" flipV="1" rot="10800000">
              <a:off x="222840" y="4202640"/>
              <a:ext cx="791640" cy="69732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等腰三角形 30"/>
            <p:cNvSpPr/>
            <p:nvPr/>
          </p:nvSpPr>
          <p:spPr>
            <a:xfrm flipH="1" flipV="1" rot="10800000">
              <a:off x="-271080" y="4202640"/>
              <a:ext cx="400680" cy="697320"/>
            </a:xfrm>
            <a:custGeom>
              <a:avLst/>
              <a:gdLst>
                <a:gd name="textAreaLeft" fmla="*/ 360 w 400680"/>
                <a:gd name="textAreaRight" fmla="*/ 401400 w 400680"/>
                <a:gd name="textAreaTop" fmla="*/ -360 h 697320"/>
                <a:gd name="textAreaBottom" fmla="*/ 697320 h 697320"/>
              </a:gdLst>
              <a:ahLst/>
              <a:rect l="textAreaLeft" t="textAreaTop" r="textAreaRight" b="textAreaBottom"/>
              <a:pathLst>
                <a:path w="401161" h="697576">
                  <a:moveTo>
                    <a:pt x="0" y="697576"/>
                  </a:moveTo>
                  <a:lnTo>
                    <a:pt x="401161" y="697576"/>
                  </a:lnTo>
                  <a:lnTo>
                    <a:pt x="5117" y="0"/>
                  </a:lnTo>
                  <a:lnTo>
                    <a:pt x="0" y="9013"/>
                  </a:lnTo>
                  <a:close/>
                </a:path>
              </a:pathLst>
            </a:cu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等腰三角形 34"/>
            <p:cNvSpPr/>
            <p:nvPr/>
          </p:nvSpPr>
          <p:spPr>
            <a:xfrm flipH="1" rot="10800000">
              <a:off x="-15480" y="4936320"/>
              <a:ext cx="295200" cy="494640"/>
            </a:xfrm>
            <a:custGeom>
              <a:avLst/>
              <a:gdLst>
                <a:gd name="textAreaLeft" fmla="*/ 360 w 295200"/>
                <a:gd name="textAreaRight" fmla="*/ 295920 w 2952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95607" h="494881">
                  <a:moveTo>
                    <a:pt x="14642" y="0"/>
                  </a:moveTo>
                  <a:lnTo>
                    <a:pt x="295607" y="494881"/>
                  </a:lnTo>
                  <a:lnTo>
                    <a:pt x="0" y="494881"/>
                  </a:lnTo>
                  <a:lnTo>
                    <a:pt x="0" y="25790"/>
                  </a:lnTo>
                  <a:close/>
                </a:path>
              </a:pathLst>
            </a:custGeom>
            <a:solidFill>
              <a:schemeClr val="bg1">
                <a:alpha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等腰三角形 63"/>
            <p:cNvSpPr/>
            <p:nvPr/>
          </p:nvSpPr>
          <p:spPr>
            <a:xfrm flipH="1" flipV="1" rot="10800000">
              <a:off x="-37440" y="3724560"/>
              <a:ext cx="212040" cy="366120"/>
            </a:xfrm>
            <a:custGeom>
              <a:avLst/>
              <a:gdLst>
                <a:gd name="textAreaLeft" fmla="*/ -360 w 212040"/>
                <a:gd name="textAreaRight" fmla="*/ 212040 w 212040"/>
                <a:gd name="textAreaTop" fmla="*/ -360 h 366120"/>
                <a:gd name="textAreaBottom" fmla="*/ 366120 h 366120"/>
              </a:gdLst>
              <a:ahLst/>
              <a:rect l="textAreaLeft" t="textAreaTop" r="textAreaRight" b="textAreaBottom"/>
              <a:pathLst>
                <a:path w="212556" h="366481">
                  <a:moveTo>
                    <a:pt x="212556" y="366481"/>
                  </a:moveTo>
                  <a:lnTo>
                    <a:pt x="0" y="366481"/>
                  </a:lnTo>
                  <a:lnTo>
                    <a:pt x="0" y="7907"/>
                  </a:lnTo>
                  <a:lnTo>
                    <a:pt x="4489" y="0"/>
                  </a:lnTo>
                  <a:close/>
                </a:path>
              </a:pathLst>
            </a:custGeom>
            <a:solidFill>
              <a:srgbClr val="0686c8">
                <a:alpha val="7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等腰三角形 122"/>
            <p:cNvSpPr/>
            <p:nvPr/>
          </p:nvSpPr>
          <p:spPr>
            <a:xfrm flipH="1" flipV="1" rot="10800000">
              <a:off x="273960" y="372456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7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等腰三角形 123"/>
            <p:cNvSpPr/>
            <p:nvPr/>
          </p:nvSpPr>
          <p:spPr>
            <a:xfrm flipH="1" flipV="1" rot="10800000">
              <a:off x="42120" y="411192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3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等腰三角形 124"/>
            <p:cNvSpPr/>
            <p:nvPr/>
          </p:nvSpPr>
          <p:spPr>
            <a:xfrm flipH="1" flipV="1" rot="10800000">
              <a:off x="505800" y="411192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3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等腰三角形 67"/>
            <p:cNvSpPr/>
            <p:nvPr/>
          </p:nvSpPr>
          <p:spPr>
            <a:xfrm flipH="1" flipV="1" rot="10800000">
              <a:off x="-33840" y="4510440"/>
              <a:ext cx="261720" cy="366120"/>
            </a:xfrm>
            <a:custGeom>
              <a:avLst/>
              <a:gdLst>
                <a:gd name="textAreaLeft" fmla="*/ -360 w 261720"/>
                <a:gd name="textAreaRight" fmla="*/ 261720 w 261720"/>
                <a:gd name="textAreaTop" fmla="*/ -360 h 366120"/>
                <a:gd name="textAreaBottom" fmla="*/ 366120 h 366120"/>
              </a:gdLst>
              <a:ahLst/>
              <a:rect l="textAreaLeft" t="textAreaTop" r="textAreaRight" b="textAreaBottom"/>
              <a:pathLst>
                <a:path w="262111" h="366481">
                  <a:moveTo>
                    <a:pt x="262111" y="366481"/>
                  </a:moveTo>
                  <a:lnTo>
                    <a:pt x="0" y="366481"/>
                  </a:lnTo>
                  <a:lnTo>
                    <a:pt x="0" y="95191"/>
                  </a:lnTo>
                  <a:lnTo>
                    <a:pt x="54044" y="0"/>
                  </a:lnTo>
                  <a:close/>
                </a:path>
              </a:pathLst>
            </a:custGeom>
            <a:solidFill>
              <a:srgbClr val="0686c8">
                <a:alpha val="4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等腰三角形 126"/>
            <p:cNvSpPr/>
            <p:nvPr/>
          </p:nvSpPr>
          <p:spPr>
            <a:xfrm flipH="1" flipV="1" rot="10800000">
              <a:off x="273960" y="451044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7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等腰三角形 127"/>
            <p:cNvSpPr/>
            <p:nvPr/>
          </p:nvSpPr>
          <p:spPr>
            <a:xfrm flipH="1" flipV="1" rot="10800000">
              <a:off x="738000" y="451044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3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等腰三角形 70"/>
            <p:cNvSpPr/>
            <p:nvPr/>
          </p:nvSpPr>
          <p:spPr>
            <a:xfrm flipH="1" rot="10800000">
              <a:off x="-37080" y="4112640"/>
              <a:ext cx="265680" cy="366120"/>
            </a:xfrm>
            <a:custGeom>
              <a:avLst/>
              <a:gdLst>
                <a:gd name="textAreaLeft" fmla="*/ 360 w 265680"/>
                <a:gd name="textAreaRight" fmla="*/ 266400 w 26568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65932" h="366481">
                  <a:moveTo>
                    <a:pt x="57865" y="0"/>
                  </a:moveTo>
                  <a:lnTo>
                    <a:pt x="0" y="101921"/>
                  </a:lnTo>
                  <a:lnTo>
                    <a:pt x="0" y="366481"/>
                  </a:lnTo>
                  <a:lnTo>
                    <a:pt x="265932" y="366481"/>
                  </a:lnTo>
                  <a:close/>
                </a:path>
              </a:pathLst>
            </a:cu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等腰三角形 129"/>
            <p:cNvSpPr/>
            <p:nvPr/>
          </p:nvSpPr>
          <p:spPr>
            <a:xfrm flipH="1" rot="10800000">
              <a:off x="505800" y="450540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6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等腰三角形 31"/>
            <p:cNvSpPr/>
            <p:nvPr/>
          </p:nvSpPr>
          <p:spPr>
            <a:xfrm flipH="1" rot="10800000">
              <a:off x="-37080" y="4897440"/>
              <a:ext cx="270720" cy="254160"/>
            </a:xfrm>
            <a:custGeom>
              <a:avLst/>
              <a:gdLst>
                <a:gd name="textAreaLeft" fmla="*/ 360 w 270720"/>
                <a:gd name="textAreaRight" fmla="*/ 271440 w 2707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70936" h="254416">
                  <a:moveTo>
                    <a:pt x="126493" y="0"/>
                  </a:moveTo>
                  <a:lnTo>
                    <a:pt x="0" y="0"/>
                  </a:lnTo>
                  <a:lnTo>
                    <a:pt x="0" y="254416"/>
                  </a:lnTo>
                  <a:lnTo>
                    <a:pt x="270936" y="254416"/>
                  </a:lnTo>
                  <a:close/>
                </a:path>
              </a:pathLst>
            </a:custGeom>
            <a:solidFill>
              <a:srgbClr val="0686c8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等腰三角形 32"/>
            <p:cNvSpPr/>
            <p:nvPr/>
          </p:nvSpPr>
          <p:spPr>
            <a:xfrm flipH="1" rot="10800000">
              <a:off x="273960" y="4897440"/>
              <a:ext cx="415800" cy="254160"/>
            </a:xfrm>
            <a:custGeom>
              <a:avLst/>
              <a:gdLst>
                <a:gd name="textAreaLeft" fmla="*/ -360 w 415800"/>
                <a:gd name="textAreaRight" fmla="*/ 415800 w 4158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792088" h="484268">
                  <a:moveTo>
                    <a:pt x="0" y="484268"/>
                  </a:moveTo>
                  <a:lnTo>
                    <a:pt x="792088" y="484268"/>
                  </a:lnTo>
                  <a:lnTo>
                    <a:pt x="517148" y="0"/>
                  </a:lnTo>
                  <a:lnTo>
                    <a:pt x="274940" y="0"/>
                  </a:lnTo>
                  <a:close/>
                </a:path>
              </a:pathLst>
            </a:custGeom>
            <a:solidFill>
              <a:srgbClr val="0686c8">
                <a:alpha val="3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等腰三角形 33"/>
            <p:cNvSpPr/>
            <p:nvPr/>
          </p:nvSpPr>
          <p:spPr>
            <a:xfrm flipH="1" rot="10800000">
              <a:off x="738000" y="4897440"/>
              <a:ext cx="415800" cy="254160"/>
            </a:xfrm>
            <a:custGeom>
              <a:avLst/>
              <a:gdLst>
                <a:gd name="textAreaLeft" fmla="*/ -360 w 415800"/>
                <a:gd name="textAreaRight" fmla="*/ 415800 w 4158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792088" h="484268">
                  <a:moveTo>
                    <a:pt x="0" y="484268"/>
                  </a:moveTo>
                  <a:lnTo>
                    <a:pt x="792088" y="484268"/>
                  </a:lnTo>
                  <a:lnTo>
                    <a:pt x="517148" y="0"/>
                  </a:lnTo>
                  <a:lnTo>
                    <a:pt x="274940" y="0"/>
                  </a:lnTo>
                  <a:close/>
                </a:path>
              </a:pathLst>
            </a:custGeom>
            <a:solidFill>
              <a:srgbClr val="0686c8">
                <a:alpha val="7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等腰三角形 35"/>
            <p:cNvSpPr/>
            <p:nvPr/>
          </p:nvSpPr>
          <p:spPr>
            <a:xfrm flipH="1" flipV="1" rot="10800000">
              <a:off x="102600" y="4891320"/>
              <a:ext cx="294840" cy="259560"/>
            </a:xfrm>
            <a:custGeom>
              <a:avLst/>
              <a:gdLst>
                <a:gd name="textAreaLeft" fmla="*/ -360 w 294840"/>
                <a:gd name="textAreaRight" fmla="*/ 294840 w 294840"/>
                <a:gd name="textAreaTop" fmla="*/ -360 h 259560"/>
                <a:gd name="textAreaBottom" fmla="*/ 259560 h 259560"/>
              </a:gdLst>
              <a:ahLst/>
              <a:rect l="textAreaLeft" t="textAreaTop" r="textAreaRight" b="textAreaBottom"/>
              <a:pathLst>
                <a:path w="561930" h="494881">
                  <a:moveTo>
                    <a:pt x="280965" y="0"/>
                  </a:moveTo>
                  <a:lnTo>
                    <a:pt x="561930" y="494881"/>
                  </a:lnTo>
                  <a:lnTo>
                    <a:pt x="0" y="494881"/>
                  </a:lnTo>
                  <a:close/>
                </a:path>
              </a:pathLst>
            </a:custGeom>
            <a:solidFill>
              <a:srgbClr val="0686c8">
                <a:alpha val="2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等腰三角形 36"/>
            <p:cNvSpPr/>
            <p:nvPr/>
          </p:nvSpPr>
          <p:spPr>
            <a:xfrm flipH="1" flipV="1" rot="10800000">
              <a:off x="566280" y="4891320"/>
              <a:ext cx="294840" cy="259560"/>
            </a:xfrm>
            <a:custGeom>
              <a:avLst/>
              <a:gdLst>
                <a:gd name="textAreaLeft" fmla="*/ -360 w 294840"/>
                <a:gd name="textAreaRight" fmla="*/ 294840 w 294840"/>
                <a:gd name="textAreaTop" fmla="*/ -360 h 259560"/>
                <a:gd name="textAreaBottom" fmla="*/ 259560 h 259560"/>
              </a:gdLst>
              <a:ahLst/>
              <a:rect l="textAreaLeft" t="textAreaTop" r="textAreaRight" b="textAreaBottom"/>
              <a:pathLst>
                <a:path w="561930" h="494881">
                  <a:moveTo>
                    <a:pt x="280965" y="0"/>
                  </a:moveTo>
                  <a:lnTo>
                    <a:pt x="561930" y="494881"/>
                  </a:lnTo>
                  <a:lnTo>
                    <a:pt x="0" y="494881"/>
                  </a:lnTo>
                  <a:close/>
                </a:path>
              </a:pathLst>
            </a:custGeom>
            <a:solidFill>
              <a:srgbClr val="0686c8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等腰三角形 37"/>
            <p:cNvSpPr/>
            <p:nvPr/>
          </p:nvSpPr>
          <p:spPr>
            <a:xfrm flipH="1" flipV="1" rot="10800000">
              <a:off x="1029240" y="4891320"/>
              <a:ext cx="294840" cy="259560"/>
            </a:xfrm>
            <a:custGeom>
              <a:avLst/>
              <a:gdLst>
                <a:gd name="textAreaLeft" fmla="*/ -360 w 294840"/>
                <a:gd name="textAreaRight" fmla="*/ 294840 w 294840"/>
                <a:gd name="textAreaTop" fmla="*/ -360 h 259560"/>
                <a:gd name="textAreaBottom" fmla="*/ 259560 h 259560"/>
              </a:gdLst>
              <a:ahLst/>
              <a:rect l="textAreaLeft" t="textAreaTop" r="textAreaRight" b="textAreaBottom"/>
              <a:pathLst>
                <a:path w="561930" h="494881">
                  <a:moveTo>
                    <a:pt x="280965" y="0"/>
                  </a:moveTo>
                  <a:lnTo>
                    <a:pt x="561930" y="494881"/>
                  </a:lnTo>
                  <a:lnTo>
                    <a:pt x="0" y="494881"/>
                  </a:lnTo>
                  <a:close/>
                </a:path>
              </a:pathLst>
            </a:custGeom>
            <a:solidFill>
              <a:srgbClr val="0686c8">
                <a:alpha val="6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等腰三角形 136"/>
            <p:cNvSpPr/>
            <p:nvPr/>
          </p:nvSpPr>
          <p:spPr>
            <a:xfrm flipH="1" rot="10800000">
              <a:off x="39240" y="450540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6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等腰三角形 137"/>
            <p:cNvSpPr/>
            <p:nvPr/>
          </p:nvSpPr>
          <p:spPr>
            <a:xfrm flipH="1" rot="10800000">
              <a:off x="273960" y="4112640"/>
              <a:ext cx="415800" cy="366120"/>
            </a:xfrm>
            <a:prstGeom prst="triangle">
              <a:avLst>
                <a:gd name="adj" fmla="val 50000"/>
              </a:avLst>
            </a:prstGeom>
            <a:solidFill>
              <a:srgbClr val="0686c8">
                <a:alpha val="2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microsoft.com/office/2007/relationships/hdphoto" Target="../media/hdphoto1.wdp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weibo.com/u/2477801747/home?wvr=5&amp;lf=reg" TargetMode="External"/><Relationship Id="rId3" Type="http://schemas.openxmlformats.org/officeDocument/2006/relationships/hyperlink" Target="http://weibo.com/u/2477801747/home?wvr=5&amp;lf=reg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s://www.pinterest.com/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D:\Personal\Desktop\QQ截图20150305112907.png"/>
          <p:cNvPicPr/>
          <p:nvPr/>
        </p:nvPicPr>
        <p:blipFill>
          <a:blip r:embed="rId1"/>
          <a:srcRect l="0" t="0" r="47085" b="0"/>
          <a:stretch/>
        </p:blipFill>
        <p:spPr>
          <a:xfrm>
            <a:off x="7457760" y="-16200"/>
            <a:ext cx="1714320" cy="1554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D:\Personal\Desktop\QQ截图20150305113111.png"/>
          <p:cNvPicPr/>
          <p:nvPr/>
        </p:nvPicPr>
        <p:blipFill>
          <a:blip r:embed="rId2"/>
          <a:stretch/>
        </p:blipFill>
        <p:spPr>
          <a:xfrm>
            <a:off x="1003320" y="-24120"/>
            <a:ext cx="3243240" cy="1552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D:\Personal\Desktop\QQ截图20150305113132.png"/>
          <p:cNvPicPr/>
          <p:nvPr/>
        </p:nvPicPr>
        <p:blipFill>
          <a:blip r:embed="rId3"/>
          <a:stretch/>
        </p:blipFill>
        <p:spPr>
          <a:xfrm>
            <a:off x="4246920" y="-11880"/>
            <a:ext cx="3353760" cy="1608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D:\Personal\Desktop\QQ截图20150305113154.png"/>
          <p:cNvPicPr/>
          <p:nvPr/>
        </p:nvPicPr>
        <p:blipFill>
          <a:blip r:embed="rId4"/>
          <a:srcRect l="0" t="1652" r="0" b="0"/>
          <a:stretch/>
        </p:blipFill>
        <p:spPr>
          <a:xfrm>
            <a:off x="1680480" y="1528560"/>
            <a:ext cx="3376800" cy="1588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D:\Personal\Desktop\QQ截图20150305113241.png"/>
          <p:cNvPicPr/>
          <p:nvPr/>
        </p:nvPicPr>
        <p:blipFill>
          <a:blip r:embed="rId5"/>
          <a:srcRect l="0" t="0" r="66718" b="0"/>
          <a:stretch/>
        </p:blipFill>
        <p:spPr>
          <a:xfrm>
            <a:off x="8072280" y="1528560"/>
            <a:ext cx="1099800" cy="1588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D:\Personal\Desktop\QQ截图20150305112804.png"/>
          <p:cNvPicPr/>
          <p:nvPr/>
        </p:nvPicPr>
        <p:blipFill>
          <a:blip r:embed="rId6"/>
          <a:stretch/>
        </p:blipFill>
        <p:spPr>
          <a:xfrm>
            <a:off x="4716000" y="1528560"/>
            <a:ext cx="3358080" cy="1588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D:\Personal\Desktop\150306午间欣赏\063516p6X.jpg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artisticBlur/>
                    </a14:imgEffect>
                  </a14:imgLayer>
                </a14:imgProps>
              </a:ext>
            </a:extLst>
          </a:blip>
          <a:srcRect l="0" t="57224" r="0" b="5622"/>
          <a:stretch/>
        </p:blipFill>
        <p:spPr>
          <a:xfrm>
            <a:off x="971640" y="3117600"/>
            <a:ext cx="8200440" cy="2023920"/>
          </a:xfrm>
          <a:prstGeom prst="rect">
            <a:avLst/>
          </a:prstGeom>
          <a:ln w="0">
            <a:noFill/>
          </a:ln>
        </p:spPr>
      </p:pic>
      <p:sp>
        <p:nvSpPr>
          <p:cNvPr id="286" name="矩形 14"/>
          <p:cNvSpPr/>
          <p:nvPr/>
        </p:nvSpPr>
        <p:spPr>
          <a:xfrm>
            <a:off x="2123640" y="3219840"/>
            <a:ext cx="7020000" cy="844920"/>
          </a:xfrm>
          <a:prstGeom prst="rect">
            <a:avLst/>
          </a:prstGeom>
          <a:solidFill>
            <a:srgbClr val="d0d0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等腰三角形 12"/>
          <p:cNvSpPr/>
          <p:nvPr/>
        </p:nvSpPr>
        <p:spPr>
          <a:xfrm flipV="1">
            <a:off x="7776360" y="-11520"/>
            <a:ext cx="1395720" cy="2366640"/>
          </a:xfrm>
          <a:prstGeom prst="triangle">
            <a:avLst>
              <a:gd name="adj" fmla="val 100000"/>
            </a:avLst>
          </a:prstGeom>
          <a:solidFill>
            <a:srgbClr val="d0d0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88" name="直接连接符 18"/>
          <p:cNvCxnSpPr/>
          <p:nvPr/>
        </p:nvCxnSpPr>
        <p:spPr>
          <a:xfrm>
            <a:off x="2771640" y="3087000"/>
            <a:ext cx="6372720" cy="360"/>
          </a:xfrm>
          <a:prstGeom prst="straightConnector1">
            <a:avLst/>
          </a:prstGeom>
          <a:ln w="57150">
            <a:solidFill>
              <a:srgbClr val="000000">
                <a:alpha val="17000"/>
              </a:srgbClr>
            </a:solidFill>
            <a:round/>
          </a:ln>
        </p:spPr>
      </p:cxnSp>
      <p:grpSp>
        <p:nvGrpSpPr>
          <p:cNvPr id="289" name="组合 56"/>
          <p:cNvGrpSpPr/>
          <p:nvPr/>
        </p:nvGrpSpPr>
        <p:grpSpPr>
          <a:xfrm>
            <a:off x="7983000" y="3226320"/>
            <a:ext cx="1179000" cy="1083600"/>
            <a:chOff x="7983000" y="3226320"/>
            <a:chExt cx="1179000" cy="1083600"/>
          </a:xfrm>
        </p:grpSpPr>
        <p:sp>
          <p:nvSpPr>
            <p:cNvPr id="290" name="等腰三角形 79"/>
            <p:cNvSpPr/>
            <p:nvPr/>
          </p:nvSpPr>
          <p:spPr>
            <a:xfrm rot="10800000">
              <a:off x="8848800" y="4034160"/>
              <a:ext cx="313200" cy="27576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等腰三角形 80"/>
            <p:cNvSpPr/>
            <p:nvPr/>
          </p:nvSpPr>
          <p:spPr>
            <a:xfrm rot="10800000">
              <a:off x="8460720" y="4034160"/>
              <a:ext cx="313200" cy="27576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等腰三角形 81"/>
            <p:cNvSpPr/>
            <p:nvPr/>
          </p:nvSpPr>
          <p:spPr>
            <a:xfrm rot="10800000">
              <a:off x="8635680" y="3733200"/>
              <a:ext cx="313200" cy="27576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等腰三角形 82"/>
            <p:cNvSpPr/>
            <p:nvPr/>
          </p:nvSpPr>
          <p:spPr>
            <a:xfrm rot="10800000">
              <a:off x="8286120" y="3733200"/>
              <a:ext cx="313200" cy="27576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8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等腰三角形 83"/>
            <p:cNvSpPr/>
            <p:nvPr/>
          </p:nvSpPr>
          <p:spPr>
            <a:xfrm rot="10800000">
              <a:off x="8808840" y="3432960"/>
              <a:ext cx="313200" cy="27576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9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等腰三角形 84"/>
            <p:cNvSpPr/>
            <p:nvPr/>
          </p:nvSpPr>
          <p:spPr>
            <a:xfrm rot="10800000">
              <a:off x="8460720" y="3432960"/>
              <a:ext cx="313200" cy="27576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76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等腰三角形 85"/>
            <p:cNvSpPr/>
            <p:nvPr/>
          </p:nvSpPr>
          <p:spPr>
            <a:xfrm rot="10800000">
              <a:off x="8111520" y="3432960"/>
              <a:ext cx="313200" cy="27576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2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" name="等腰三角形 86"/>
            <p:cNvSpPr/>
            <p:nvPr/>
          </p:nvSpPr>
          <p:spPr>
            <a:xfrm flipV="1" rot="10800000">
              <a:off x="8808840" y="3733200"/>
              <a:ext cx="313200" cy="27576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等腰三角形 87"/>
            <p:cNvSpPr/>
            <p:nvPr/>
          </p:nvSpPr>
          <p:spPr>
            <a:xfrm flipV="1" rot="10800000">
              <a:off x="8286120" y="3437280"/>
              <a:ext cx="313200" cy="275760"/>
            </a:xfrm>
            <a:prstGeom prst="triangle">
              <a:avLst>
                <a:gd name="adj" fmla="val 50000"/>
              </a:avLst>
            </a:prstGeom>
            <a:solidFill>
              <a:schemeClr val="bg1">
                <a:alpha val="4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" name="等腰三角形 30"/>
            <p:cNvSpPr/>
            <p:nvPr/>
          </p:nvSpPr>
          <p:spPr>
            <a:xfrm flipV="1" rot="10800000">
              <a:off x="8985960" y="3437280"/>
              <a:ext cx="158400" cy="2757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360 h 275760"/>
                <a:gd name="textAreaBottom" fmla="*/ 276480 h 275760"/>
              </a:gdLst>
              <a:ahLst/>
              <a:rect l="textAreaLeft" t="textAreaTop" r="textAreaRight" b="textAreaBottom"/>
              <a:pathLst>
                <a:path w="401161" h="697576">
                  <a:moveTo>
                    <a:pt x="0" y="697576"/>
                  </a:moveTo>
                  <a:lnTo>
                    <a:pt x="401161" y="697576"/>
                  </a:lnTo>
                  <a:lnTo>
                    <a:pt x="5117" y="0"/>
                  </a:lnTo>
                  <a:lnTo>
                    <a:pt x="0" y="9013"/>
                  </a:lnTo>
                  <a:close/>
                </a:path>
              </a:pathLst>
            </a:custGeom>
            <a:solidFill>
              <a:schemeClr val="bg1">
                <a:alpha val="8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等腰三角形 31"/>
            <p:cNvSpPr/>
            <p:nvPr/>
          </p:nvSpPr>
          <p:spPr>
            <a:xfrm flipV="1" rot="10800000">
              <a:off x="8804880" y="3225960"/>
              <a:ext cx="313200" cy="19116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-360 h 191160"/>
                <a:gd name="textAreaBottom" fmla="*/ 191160 h 191160"/>
              </a:gdLst>
              <a:ahLst/>
              <a:rect l="textAreaLeft" t="textAreaTop" r="textAreaRight" b="textAreaBottom"/>
              <a:pathLst>
                <a:path w="792088" h="484268">
                  <a:moveTo>
                    <a:pt x="0" y="484268"/>
                  </a:moveTo>
                  <a:lnTo>
                    <a:pt x="792088" y="484268"/>
                  </a:lnTo>
                  <a:lnTo>
                    <a:pt x="517148" y="0"/>
                  </a:lnTo>
                  <a:lnTo>
                    <a:pt x="274940" y="0"/>
                  </a:lnTo>
                  <a:close/>
                </a:path>
              </a:pathLst>
            </a:custGeom>
            <a:solidFill>
              <a:schemeClr val="bg1">
                <a:alpha val="46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等腰三角形 32"/>
            <p:cNvSpPr/>
            <p:nvPr/>
          </p:nvSpPr>
          <p:spPr>
            <a:xfrm flipV="1" rot="10800000">
              <a:off x="8460720" y="3225960"/>
              <a:ext cx="313200" cy="19116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-360 h 191160"/>
                <a:gd name="textAreaBottom" fmla="*/ 191160 h 191160"/>
              </a:gdLst>
              <a:ahLst/>
              <a:rect l="textAreaLeft" t="textAreaTop" r="textAreaRight" b="textAreaBottom"/>
              <a:pathLst>
                <a:path w="792088" h="484268">
                  <a:moveTo>
                    <a:pt x="0" y="484268"/>
                  </a:moveTo>
                  <a:lnTo>
                    <a:pt x="792088" y="484268"/>
                  </a:lnTo>
                  <a:lnTo>
                    <a:pt x="517148" y="0"/>
                  </a:lnTo>
                  <a:lnTo>
                    <a:pt x="274940" y="0"/>
                  </a:lnTo>
                  <a:close/>
                </a:path>
              </a:pathLst>
            </a:custGeom>
            <a:solidFill>
              <a:schemeClr val="bg1">
                <a:alpha val="66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2" name="等腰三角形 33"/>
            <p:cNvSpPr/>
            <p:nvPr/>
          </p:nvSpPr>
          <p:spPr>
            <a:xfrm flipV="1" rot="10800000">
              <a:off x="8111520" y="3225960"/>
              <a:ext cx="313200" cy="19116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-360 h 191160"/>
                <a:gd name="textAreaBottom" fmla="*/ 191160 h 191160"/>
              </a:gdLst>
              <a:ahLst/>
              <a:rect l="textAreaLeft" t="textAreaTop" r="textAreaRight" b="textAreaBottom"/>
              <a:pathLst>
                <a:path w="792088" h="484268">
                  <a:moveTo>
                    <a:pt x="0" y="484268"/>
                  </a:moveTo>
                  <a:lnTo>
                    <a:pt x="792088" y="484268"/>
                  </a:lnTo>
                  <a:lnTo>
                    <a:pt x="517148" y="0"/>
                  </a:lnTo>
                  <a:lnTo>
                    <a:pt x="274940" y="0"/>
                  </a:lnTo>
                  <a:close/>
                </a:path>
              </a:pathLst>
            </a:custGeom>
            <a:solidFill>
              <a:schemeClr val="bg1">
                <a:alpha val="8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3" name="等腰三角形 34"/>
            <p:cNvSpPr/>
            <p:nvPr/>
          </p:nvSpPr>
          <p:spPr>
            <a:xfrm rot="10800000">
              <a:off x="9027720" y="3226320"/>
              <a:ext cx="116640" cy="19548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295607" h="494881">
                  <a:moveTo>
                    <a:pt x="14642" y="0"/>
                  </a:moveTo>
                  <a:lnTo>
                    <a:pt x="295607" y="494881"/>
                  </a:lnTo>
                  <a:lnTo>
                    <a:pt x="0" y="494881"/>
                  </a:lnTo>
                  <a:lnTo>
                    <a:pt x="0" y="25790"/>
                  </a:lnTo>
                  <a:close/>
                </a:path>
              </a:pathLst>
            </a:custGeom>
            <a:solidFill>
              <a:schemeClr val="bg1">
                <a:alpha val="1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4" name="等腰三角形 35"/>
            <p:cNvSpPr/>
            <p:nvPr/>
          </p:nvSpPr>
          <p:spPr>
            <a:xfrm rot="10800000">
              <a:off x="8681040" y="3226320"/>
              <a:ext cx="222120" cy="195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561930" h="494881">
                  <a:moveTo>
                    <a:pt x="280965" y="0"/>
                  </a:moveTo>
                  <a:lnTo>
                    <a:pt x="561930" y="494881"/>
                  </a:lnTo>
                  <a:lnTo>
                    <a:pt x="0" y="494881"/>
                  </a:lnTo>
                  <a:close/>
                </a:path>
              </a:pathLst>
            </a:custGeom>
            <a:solidFill>
              <a:schemeClr val="bg1">
                <a:alpha val="3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等腰三角形 36"/>
            <p:cNvSpPr/>
            <p:nvPr/>
          </p:nvSpPr>
          <p:spPr>
            <a:xfrm rot="10800000">
              <a:off x="8331840" y="3226320"/>
              <a:ext cx="222120" cy="195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561930" h="494881">
                  <a:moveTo>
                    <a:pt x="280965" y="0"/>
                  </a:moveTo>
                  <a:lnTo>
                    <a:pt x="561930" y="494881"/>
                  </a:lnTo>
                  <a:lnTo>
                    <a:pt x="0" y="494881"/>
                  </a:lnTo>
                  <a:close/>
                </a:path>
              </a:pathLst>
            </a:custGeom>
            <a:solidFill>
              <a:schemeClr val="bg1">
                <a:alpha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6" name="等腰三角形 37"/>
            <p:cNvSpPr/>
            <p:nvPr/>
          </p:nvSpPr>
          <p:spPr>
            <a:xfrm rot="10800000">
              <a:off x="7983000" y="3226320"/>
              <a:ext cx="222120" cy="195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561930" h="494881">
                  <a:moveTo>
                    <a:pt x="280965" y="0"/>
                  </a:moveTo>
                  <a:lnTo>
                    <a:pt x="561930" y="494881"/>
                  </a:lnTo>
                  <a:lnTo>
                    <a:pt x="0" y="494881"/>
                  </a:lnTo>
                  <a:close/>
                </a:path>
              </a:pathLst>
            </a:custGeom>
            <a:solidFill>
              <a:schemeClr val="bg1">
                <a:alpha val="56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7" name="TextBox 63"/>
          <p:cNvSpPr/>
          <p:nvPr/>
        </p:nvSpPr>
        <p:spPr>
          <a:xfrm>
            <a:off x="3579840" y="3467880"/>
            <a:ext cx="4045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97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从</a:t>
            </a:r>
            <a:r>
              <a:rPr b="1" lang="en-US" sz="2400" spc="97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Web</a:t>
            </a:r>
            <a:r>
              <a:rPr b="1" lang="zh-CN" sz="2000" spc="97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设计趋势看</a:t>
            </a:r>
            <a:r>
              <a:rPr b="1" lang="en-US" sz="2400" spc="97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2000" spc="97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07"/>
          <p:cNvSpPr/>
          <p:nvPr/>
        </p:nvSpPr>
        <p:spPr>
          <a:xfrm>
            <a:off x="3156840" y="4082760"/>
            <a:ext cx="5986800" cy="237600"/>
          </a:xfrm>
          <a:custGeom>
            <a:avLst/>
            <a:gdLst>
              <a:gd name="textAreaLeft" fmla="*/ 0 w 5986800"/>
              <a:gd name="textAreaRight" fmla="*/ 5987160 w 5986800"/>
              <a:gd name="textAreaTop" fmla="*/ 0 h 237600"/>
              <a:gd name="textAreaBottom" fmla="*/ 237960 h 237600"/>
            </a:gdLst>
            <a:ahLst/>
            <a:rect l="textAreaLeft" t="textAreaTop" r="textAreaRight" b="textAreaBottom"/>
            <a:pathLst>
              <a:path w="5987062" h="237874">
                <a:moveTo>
                  <a:pt x="0" y="0"/>
                </a:moveTo>
                <a:lnTo>
                  <a:pt x="5987062" y="0"/>
                </a:lnTo>
                <a:lnTo>
                  <a:pt x="5987062" y="237874"/>
                </a:lnTo>
                <a:lnTo>
                  <a:pt x="236413" y="237874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TextBox 104"/>
          <p:cNvSpPr/>
          <p:nvPr/>
        </p:nvSpPr>
        <p:spPr>
          <a:xfrm>
            <a:off x="7976880" y="4075920"/>
            <a:ext cx="1154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By:</a:t>
            </a:r>
            <a:r>
              <a:rPr b="0" lang="zh-CN" sz="105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向阳的小七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等腰三角形 11"/>
          <p:cNvSpPr/>
          <p:nvPr/>
        </p:nvSpPr>
        <p:spPr>
          <a:xfrm>
            <a:off x="-9360" y="-9360"/>
            <a:ext cx="4005000" cy="5152680"/>
          </a:xfrm>
          <a:custGeom>
            <a:avLst/>
            <a:gdLst>
              <a:gd name="textAreaLeft" fmla="*/ 0 w 4005000"/>
              <a:gd name="textAreaRight" fmla="*/ 4005360 w 4005000"/>
              <a:gd name="textAreaTop" fmla="*/ 0 h 5152680"/>
              <a:gd name="textAreaBottom" fmla="*/ 5153040 h 5152680"/>
            </a:gdLst>
            <a:ahLst/>
            <a:rect l="textAreaLeft" t="textAreaTop" r="textAreaRight" b="textAreaBottom"/>
            <a:pathLst>
              <a:path w="4005461" h="5153025">
                <a:moveTo>
                  <a:pt x="9525" y="5153025"/>
                </a:moveTo>
                <a:lnTo>
                  <a:pt x="0" y="9525"/>
                </a:lnTo>
                <a:lnTo>
                  <a:pt x="1026415" y="0"/>
                </a:lnTo>
                <a:lnTo>
                  <a:pt x="4005461" y="5153025"/>
                </a:lnTo>
                <a:lnTo>
                  <a:pt x="9525" y="5153025"/>
                </a:lnTo>
                <a:close/>
              </a:path>
            </a:pathLst>
          </a:custGeom>
          <a:solidFill>
            <a:srgbClr val="d0d0d0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矩形 52"/>
          <p:cNvSpPr/>
          <p:nvPr/>
        </p:nvSpPr>
        <p:spPr>
          <a:xfrm rot="19807200">
            <a:off x="737280" y="3428640"/>
            <a:ext cx="2002320" cy="2369520"/>
          </a:xfrm>
          <a:custGeom>
            <a:avLst/>
            <a:gdLst>
              <a:gd name="textAreaLeft" fmla="*/ 0 w 2002320"/>
              <a:gd name="textAreaRight" fmla="*/ 2002680 w 2002320"/>
              <a:gd name="textAreaTop" fmla="*/ 0 h 2369520"/>
              <a:gd name="textAreaBottom" fmla="*/ 2369880 h 2369520"/>
            </a:gdLst>
            <a:ahLst/>
            <a:rect l="textAreaLeft" t="textAreaTop" r="textAreaRight" b="textAreaBottom"/>
            <a:pathLst>
              <a:path w="2002731" h="2369979">
                <a:moveTo>
                  <a:pt x="2002731" y="0"/>
                </a:moveTo>
                <a:lnTo>
                  <a:pt x="2002731" y="2369979"/>
                </a:lnTo>
                <a:lnTo>
                  <a:pt x="0" y="1219161"/>
                </a:lnTo>
                <a:lnTo>
                  <a:pt x="0" y="0"/>
                </a:lnTo>
                <a:close/>
              </a:path>
            </a:pathLst>
          </a:custGeom>
          <a:solidFill>
            <a:srgbClr val="0686c8">
              <a:alpha val="87000"/>
            </a:srgbClr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等腰三角形 41"/>
          <p:cNvSpPr/>
          <p:nvPr/>
        </p:nvSpPr>
        <p:spPr>
          <a:xfrm flipV="1">
            <a:off x="94320" y="-169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等腰三角形 45"/>
          <p:cNvSpPr/>
          <p:nvPr/>
        </p:nvSpPr>
        <p:spPr>
          <a:xfrm>
            <a:off x="549000" y="-14400"/>
            <a:ext cx="791640" cy="695520"/>
          </a:xfrm>
          <a:prstGeom prst="triangle">
            <a:avLst>
              <a:gd name="adj" fmla="val 50000"/>
            </a:avLst>
          </a:prstGeom>
          <a:solidFill>
            <a:schemeClr val="bg1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等腰三角形 46"/>
          <p:cNvSpPr/>
          <p:nvPr/>
        </p:nvSpPr>
        <p:spPr>
          <a:xfrm flipV="1">
            <a:off x="532080" y="7408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等腰三角形 15"/>
          <p:cNvSpPr/>
          <p:nvPr/>
        </p:nvSpPr>
        <p:spPr>
          <a:xfrm>
            <a:off x="0" y="-11520"/>
            <a:ext cx="2987640" cy="5154480"/>
          </a:xfrm>
          <a:prstGeom prst="triangle">
            <a:avLst>
              <a:gd name="adj" fmla="val 0"/>
            </a:avLst>
          </a:prstGeom>
          <a:solidFill>
            <a:srgbClr val="d0d0d0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等腰三角形 16"/>
          <p:cNvSpPr/>
          <p:nvPr/>
        </p:nvSpPr>
        <p:spPr>
          <a:xfrm>
            <a:off x="-74160" y="242028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2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等腰三角形 19"/>
          <p:cNvSpPr/>
          <p:nvPr/>
        </p:nvSpPr>
        <p:spPr>
          <a:xfrm>
            <a:off x="906480" y="242028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2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等腰三角形 20"/>
          <p:cNvSpPr/>
          <p:nvPr/>
        </p:nvSpPr>
        <p:spPr>
          <a:xfrm>
            <a:off x="464760" y="318132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等腰三角形 21"/>
          <p:cNvSpPr/>
          <p:nvPr/>
        </p:nvSpPr>
        <p:spPr>
          <a:xfrm>
            <a:off x="1347840" y="318132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8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等腰三角形 22"/>
          <p:cNvSpPr/>
          <p:nvPr/>
        </p:nvSpPr>
        <p:spPr>
          <a:xfrm>
            <a:off x="-29160" y="3181320"/>
            <a:ext cx="400680" cy="697320"/>
          </a:xfrm>
          <a:custGeom>
            <a:avLst/>
            <a:gdLst>
              <a:gd name="textAreaLeft" fmla="*/ 0 w 400680"/>
              <a:gd name="textAreaRight" fmla="*/ 401040 w 40068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401161" h="697576">
                <a:moveTo>
                  <a:pt x="5117" y="0"/>
                </a:moveTo>
                <a:lnTo>
                  <a:pt x="401161" y="697576"/>
                </a:lnTo>
                <a:lnTo>
                  <a:pt x="0" y="697576"/>
                </a:lnTo>
                <a:lnTo>
                  <a:pt x="0" y="9013"/>
                </a:lnTo>
                <a:close/>
              </a:path>
            </a:pathLst>
          </a:custGeom>
          <a:solidFill>
            <a:srgbClr val="0686c8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等腰三角形 23"/>
          <p:cNvSpPr/>
          <p:nvPr/>
        </p:nvSpPr>
        <p:spPr>
          <a:xfrm>
            <a:off x="27360" y="393984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9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等腰三角形 24"/>
          <p:cNvSpPr/>
          <p:nvPr/>
        </p:nvSpPr>
        <p:spPr>
          <a:xfrm>
            <a:off x="906480" y="393984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7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等腰三角形 25"/>
          <p:cNvSpPr/>
          <p:nvPr/>
        </p:nvSpPr>
        <p:spPr>
          <a:xfrm>
            <a:off x="1789560" y="393984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2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等腰三角形 26"/>
          <p:cNvSpPr/>
          <p:nvPr/>
        </p:nvSpPr>
        <p:spPr>
          <a:xfrm flipV="1">
            <a:off x="27360" y="318060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等腰三角形 27"/>
          <p:cNvSpPr/>
          <p:nvPr/>
        </p:nvSpPr>
        <p:spPr>
          <a:xfrm flipV="1">
            <a:off x="906480" y="318060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等腰三角形 28"/>
          <p:cNvSpPr/>
          <p:nvPr/>
        </p:nvSpPr>
        <p:spPr>
          <a:xfrm flipV="1">
            <a:off x="1347840" y="392868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等腰三角形 29"/>
          <p:cNvSpPr/>
          <p:nvPr/>
        </p:nvSpPr>
        <p:spPr>
          <a:xfrm flipV="1">
            <a:off x="464760" y="3928680"/>
            <a:ext cx="791640" cy="697320"/>
          </a:xfrm>
          <a:prstGeom prst="triangle">
            <a:avLst>
              <a:gd name="adj" fmla="val 50000"/>
            </a:avLst>
          </a:prstGeom>
          <a:solidFill>
            <a:srgbClr val="0686c8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等腰三角形 30"/>
          <p:cNvSpPr/>
          <p:nvPr/>
        </p:nvSpPr>
        <p:spPr>
          <a:xfrm flipV="1">
            <a:off x="-28800" y="3928680"/>
            <a:ext cx="400680" cy="697320"/>
          </a:xfrm>
          <a:custGeom>
            <a:avLst/>
            <a:gdLst>
              <a:gd name="textAreaLeft" fmla="*/ 0 w 400680"/>
              <a:gd name="textAreaRight" fmla="*/ 401040 w 400680"/>
              <a:gd name="textAreaTop" fmla="*/ -360 h 697320"/>
              <a:gd name="textAreaBottom" fmla="*/ 697320 h 697320"/>
            </a:gdLst>
            <a:ahLst/>
            <a:rect l="textAreaLeft" t="textAreaTop" r="textAreaRight" b="textAreaBottom"/>
            <a:pathLst>
              <a:path w="401161" h="697576">
                <a:moveTo>
                  <a:pt x="0" y="697576"/>
                </a:moveTo>
                <a:lnTo>
                  <a:pt x="401161" y="697576"/>
                </a:lnTo>
                <a:lnTo>
                  <a:pt x="5117" y="0"/>
                </a:lnTo>
                <a:lnTo>
                  <a:pt x="0" y="9013"/>
                </a:lnTo>
                <a:close/>
              </a:path>
            </a:pathLst>
          </a:custGeom>
          <a:solidFill>
            <a:srgbClr val="0686c8">
              <a:alpha val="8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等腰三角形 31"/>
          <p:cNvSpPr/>
          <p:nvPr/>
        </p:nvSpPr>
        <p:spPr>
          <a:xfrm flipV="1">
            <a:off x="36720" y="4675680"/>
            <a:ext cx="791640" cy="483840"/>
          </a:xfrm>
          <a:custGeom>
            <a:avLst/>
            <a:gdLst>
              <a:gd name="textAreaLeft" fmla="*/ 0 w 791640"/>
              <a:gd name="textAreaRight" fmla="*/ 792000 w 79164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rgbClr val="0686c8">
              <a:alpha val="4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等腰三角形 32"/>
          <p:cNvSpPr/>
          <p:nvPr/>
        </p:nvSpPr>
        <p:spPr>
          <a:xfrm flipV="1">
            <a:off x="906480" y="4675680"/>
            <a:ext cx="791640" cy="483840"/>
          </a:xfrm>
          <a:custGeom>
            <a:avLst/>
            <a:gdLst>
              <a:gd name="textAreaLeft" fmla="*/ 0 w 791640"/>
              <a:gd name="textAreaRight" fmla="*/ 792000 w 79164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rgbClr val="0686c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等腰三角形 33"/>
          <p:cNvSpPr/>
          <p:nvPr/>
        </p:nvSpPr>
        <p:spPr>
          <a:xfrm flipV="1">
            <a:off x="1789560" y="4675680"/>
            <a:ext cx="791640" cy="483840"/>
          </a:xfrm>
          <a:custGeom>
            <a:avLst/>
            <a:gdLst>
              <a:gd name="textAreaLeft" fmla="*/ 0 w 791640"/>
              <a:gd name="textAreaRight" fmla="*/ 792000 w 79164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792088" h="484268">
                <a:moveTo>
                  <a:pt x="0" y="484268"/>
                </a:moveTo>
                <a:lnTo>
                  <a:pt x="792088" y="484268"/>
                </a:lnTo>
                <a:lnTo>
                  <a:pt x="517148" y="0"/>
                </a:lnTo>
                <a:lnTo>
                  <a:pt x="274940" y="0"/>
                </a:lnTo>
                <a:close/>
              </a:path>
            </a:pathLst>
          </a:custGeom>
          <a:solidFill>
            <a:srgbClr val="0686c8">
              <a:alpha val="8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" name="等腰三角形 34"/>
          <p:cNvSpPr/>
          <p:nvPr/>
        </p:nvSpPr>
        <p:spPr>
          <a:xfrm>
            <a:off x="-29160" y="4664880"/>
            <a:ext cx="295200" cy="494640"/>
          </a:xfrm>
          <a:custGeom>
            <a:avLst/>
            <a:gdLst>
              <a:gd name="textAreaLeft" fmla="*/ 0 w 295200"/>
              <a:gd name="textAreaRight" fmla="*/ 295560 w 2952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295607" h="494881">
                <a:moveTo>
                  <a:pt x="14642" y="0"/>
                </a:moveTo>
                <a:lnTo>
                  <a:pt x="295607" y="494881"/>
                </a:lnTo>
                <a:lnTo>
                  <a:pt x="0" y="494881"/>
                </a:lnTo>
                <a:lnTo>
                  <a:pt x="0" y="25790"/>
                </a:lnTo>
                <a:close/>
              </a:path>
            </a:pathLst>
          </a:custGeom>
          <a:solidFill>
            <a:srgbClr val="0686c8">
              <a:alpha val="1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3" name="等腰三角形 35"/>
          <p:cNvSpPr/>
          <p:nvPr/>
        </p:nvSpPr>
        <p:spPr>
          <a:xfrm>
            <a:off x="579960" y="4664880"/>
            <a:ext cx="561600" cy="494640"/>
          </a:xfrm>
          <a:custGeom>
            <a:avLst/>
            <a:gdLst>
              <a:gd name="textAreaLeft" fmla="*/ 0 w 561600"/>
              <a:gd name="textAreaRight" fmla="*/ 561960 w 5616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rgbClr val="0686c8">
              <a:alpha val="3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4" name="等腰三角形 36"/>
          <p:cNvSpPr/>
          <p:nvPr/>
        </p:nvSpPr>
        <p:spPr>
          <a:xfrm>
            <a:off x="1462680" y="4664880"/>
            <a:ext cx="561600" cy="494640"/>
          </a:xfrm>
          <a:custGeom>
            <a:avLst/>
            <a:gdLst>
              <a:gd name="textAreaLeft" fmla="*/ 0 w 561600"/>
              <a:gd name="textAreaRight" fmla="*/ 561960 w 5616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rgbClr val="0686c8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5" name="等腰三角形 37"/>
          <p:cNvSpPr/>
          <p:nvPr/>
        </p:nvSpPr>
        <p:spPr>
          <a:xfrm>
            <a:off x="2344320" y="4664880"/>
            <a:ext cx="561600" cy="494640"/>
          </a:xfrm>
          <a:custGeom>
            <a:avLst/>
            <a:gdLst>
              <a:gd name="textAreaLeft" fmla="*/ 0 w 561600"/>
              <a:gd name="textAreaRight" fmla="*/ 561960 w 561600"/>
              <a:gd name="textAreaTop" fmla="*/ 0 h 494640"/>
              <a:gd name="textAreaBottom" fmla="*/ 495000 h 494640"/>
            </a:gdLst>
            <a:ahLst/>
            <a:rect l="textAreaLeft" t="textAreaTop" r="textAreaRight" b="textAreaBottom"/>
            <a:pathLst>
              <a:path w="561930" h="494881">
                <a:moveTo>
                  <a:pt x="280965" y="0"/>
                </a:moveTo>
                <a:lnTo>
                  <a:pt x="561930" y="494881"/>
                </a:lnTo>
                <a:lnTo>
                  <a:pt x="0" y="494881"/>
                </a:lnTo>
                <a:close/>
              </a:path>
            </a:pathLst>
          </a:custGeom>
          <a:solidFill>
            <a:srgbClr val="0686c8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6" name="等腰三角形 38"/>
          <p:cNvSpPr/>
          <p:nvPr/>
        </p:nvSpPr>
        <p:spPr>
          <a:xfrm flipV="1">
            <a:off x="-54720" y="146232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" name="等腰三角形 39"/>
          <p:cNvSpPr/>
          <p:nvPr/>
        </p:nvSpPr>
        <p:spPr>
          <a:xfrm flipV="1">
            <a:off x="-28800" y="2150280"/>
            <a:ext cx="337320" cy="594360"/>
          </a:xfrm>
          <a:custGeom>
            <a:avLst/>
            <a:gdLst>
              <a:gd name="textAreaLeft" fmla="*/ 0 w 337320"/>
              <a:gd name="textAreaRight" fmla="*/ 337680 w 337320"/>
              <a:gd name="textAreaTop" fmla="*/ -360 h 594360"/>
              <a:gd name="textAreaBottom" fmla="*/ 594360 h 594360"/>
            </a:gdLst>
            <a:ahLst/>
            <a:rect l="textAreaLeft" t="textAreaTop" r="textAreaRight" b="textAreaBottom"/>
            <a:pathLst>
              <a:path w="337663" h="594746">
                <a:moveTo>
                  <a:pt x="0" y="594746"/>
                </a:moveTo>
                <a:lnTo>
                  <a:pt x="337663" y="594746"/>
                </a:lnTo>
                <a:lnTo>
                  <a:pt x="0" y="0"/>
                </a:lnTo>
                <a:close/>
              </a:path>
            </a:pathLst>
          </a:cu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等腰三角形 40"/>
          <p:cNvSpPr/>
          <p:nvPr/>
        </p:nvSpPr>
        <p:spPr>
          <a:xfrm flipV="1">
            <a:off x="360000" y="215028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等腰三角形 42"/>
          <p:cNvSpPr/>
          <p:nvPr/>
        </p:nvSpPr>
        <p:spPr>
          <a:xfrm>
            <a:off x="-29160" y="1597320"/>
            <a:ext cx="298080" cy="525600"/>
          </a:xfrm>
          <a:custGeom>
            <a:avLst/>
            <a:gdLst>
              <a:gd name="textAreaLeft" fmla="*/ 0 w 298080"/>
              <a:gd name="textAreaRight" fmla="*/ 298440 w 2980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98548" h="525850">
                <a:moveTo>
                  <a:pt x="0" y="0"/>
                </a:moveTo>
                <a:lnTo>
                  <a:pt x="298548" y="525850"/>
                </a:lnTo>
                <a:lnTo>
                  <a:pt x="0" y="525850"/>
                </a:lnTo>
                <a:close/>
              </a:path>
            </a:pathLst>
          </a:custGeom>
          <a:solidFill>
            <a:schemeClr val="bg1">
              <a:alpha val="4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等腰三角形 43"/>
          <p:cNvSpPr/>
          <p:nvPr/>
        </p:nvSpPr>
        <p:spPr>
          <a:xfrm>
            <a:off x="-74160" y="727200"/>
            <a:ext cx="791640" cy="697320"/>
          </a:xfrm>
          <a:prstGeom prst="triangle">
            <a:avLst>
              <a:gd name="adj" fmla="val 50000"/>
            </a:avLst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等腰三角形 44"/>
          <p:cNvSpPr/>
          <p:nvPr/>
        </p:nvSpPr>
        <p:spPr>
          <a:xfrm flipV="1">
            <a:off x="-28800" y="736920"/>
            <a:ext cx="302040" cy="532080"/>
          </a:xfrm>
          <a:custGeom>
            <a:avLst/>
            <a:gdLst>
              <a:gd name="textAreaLeft" fmla="*/ 0 w 302040"/>
              <a:gd name="textAreaRight" fmla="*/ 302400 w 302040"/>
              <a:gd name="textAreaTop" fmla="*/ 360 h 532080"/>
              <a:gd name="textAreaBottom" fmla="*/ 532800 h 532080"/>
            </a:gdLst>
            <a:ahLst/>
            <a:rect l="textAreaLeft" t="textAreaTop" r="textAreaRight" b="textAreaBottom"/>
            <a:pathLst>
              <a:path w="302232" h="532339">
                <a:moveTo>
                  <a:pt x="0" y="532339"/>
                </a:moveTo>
                <a:lnTo>
                  <a:pt x="302232" y="532339"/>
                </a:lnTo>
                <a:lnTo>
                  <a:pt x="0" y="0"/>
                </a:lnTo>
                <a:close/>
              </a:path>
            </a:pathLst>
          </a:custGeom>
          <a:solidFill>
            <a:schemeClr val="bg1">
              <a:alpha val="4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42" name="直接连接符 4"/>
          <p:cNvCxnSpPr/>
          <p:nvPr/>
        </p:nvCxnSpPr>
        <p:spPr>
          <a:xfrm>
            <a:off x="-21240" y="-37800"/>
            <a:ext cx="3008520" cy="5235840"/>
          </a:xfrm>
          <a:prstGeom prst="straightConnector1">
            <a:avLst/>
          </a:prstGeom>
          <a:ln w="57150">
            <a:solidFill>
              <a:srgbClr val="0686c8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D:\Personal\Desktop\150306午间欣赏\063525sbQ.jpg"/>
          <p:cNvPicPr/>
          <p:nvPr/>
        </p:nvPicPr>
        <p:blipFill>
          <a:blip r:embed="rId1"/>
          <a:stretch/>
        </p:blipFill>
        <p:spPr>
          <a:xfrm>
            <a:off x="2153160" y="1450440"/>
            <a:ext cx="4790880" cy="3193920"/>
          </a:xfrm>
          <a:prstGeom prst="rect">
            <a:avLst/>
          </a:prstGeom>
          <a:ln w="0">
            <a:noFill/>
          </a:ln>
        </p:spPr>
      </p:pic>
      <p:sp>
        <p:nvSpPr>
          <p:cNvPr id="398" name="TextBox 152"/>
          <p:cNvSpPr/>
          <p:nvPr/>
        </p:nvSpPr>
        <p:spPr>
          <a:xfrm>
            <a:off x="205596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5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固定块（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Fixed Blocks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2056"/>
          <p:cNvSpPr/>
          <p:nvPr/>
        </p:nvSpPr>
        <p:spPr>
          <a:xfrm>
            <a:off x="2055960" y="902880"/>
            <a:ext cx="5001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固定块像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css 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的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fixed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属性，我们常见有导航菜单用这个技术，而在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2014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年，有些网页上一些小部件也使用这个技术，但多用于边栏上的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2058"/>
          <p:cNvSpPr/>
          <p:nvPr/>
        </p:nvSpPr>
        <p:spPr>
          <a:xfrm>
            <a:off x="2153160" y="1404720"/>
            <a:ext cx="4790880" cy="4536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1"/>
          <p:cNvSpPr/>
          <p:nvPr/>
        </p:nvSpPr>
        <p:spPr>
          <a:xfrm>
            <a:off x="1115640" y="894240"/>
            <a:ext cx="6821280" cy="167904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02" name="Picture 3" descr="D:\Personal\Desktop\360截图20150305163939200.jpg"/>
          <p:cNvPicPr/>
          <p:nvPr/>
        </p:nvPicPr>
        <p:blipFill>
          <a:blip r:embed="rId1"/>
          <a:srcRect l="0" t="0" r="1541" b="0"/>
          <a:stretch/>
        </p:blipFill>
        <p:spPr>
          <a:xfrm>
            <a:off x="1198080" y="952560"/>
            <a:ext cx="3262680" cy="1561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D:\Personal\Desktop\360截图20150305165349547.jpg"/>
          <p:cNvPicPr/>
          <p:nvPr/>
        </p:nvPicPr>
        <p:blipFill>
          <a:blip r:embed="rId2"/>
          <a:srcRect l="0" t="0" r="1071" b="2120"/>
          <a:stretch/>
        </p:blipFill>
        <p:spPr>
          <a:xfrm>
            <a:off x="4534920" y="952560"/>
            <a:ext cx="3328200" cy="1561320"/>
          </a:xfrm>
          <a:prstGeom prst="rect">
            <a:avLst/>
          </a:prstGeom>
          <a:ln w="0">
            <a:noFill/>
          </a:ln>
        </p:spPr>
      </p:pic>
      <p:sp>
        <p:nvSpPr>
          <p:cNvPr id="404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2631600" y="3126960"/>
            <a:ext cx="38919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很好的把要展示的内容固定到每个模块中，用的大模块区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不同的内容，能让人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印象深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408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9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D:\Personal\Desktop\150306午间欣赏\0635322hY.jpg"/>
          <p:cNvPicPr/>
          <p:nvPr/>
        </p:nvPicPr>
        <p:blipFill>
          <a:blip r:embed="rId1"/>
          <a:stretch/>
        </p:blipFill>
        <p:spPr>
          <a:xfrm>
            <a:off x="2153160" y="1450440"/>
            <a:ext cx="4790880" cy="31939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52"/>
          <p:cNvSpPr/>
          <p:nvPr/>
        </p:nvSpPr>
        <p:spPr>
          <a:xfrm>
            <a:off x="205596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6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延续扁平化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056"/>
          <p:cNvSpPr/>
          <p:nvPr/>
        </p:nvSpPr>
        <p:spPr>
          <a:xfrm>
            <a:off x="2055960" y="902880"/>
            <a:ext cx="500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扁平化可以说默认为大型科技公司以及设计师首要的设计风格，从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WEB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、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APP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上都能看到扁平化的影子，我们肯定在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2015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年这个趋势将会延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058"/>
          <p:cNvSpPr/>
          <p:nvPr/>
        </p:nvSpPr>
        <p:spPr>
          <a:xfrm>
            <a:off x="2153160" y="1404720"/>
            <a:ext cx="4790880" cy="4536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1"/>
          <p:cNvSpPr/>
          <p:nvPr/>
        </p:nvSpPr>
        <p:spPr>
          <a:xfrm>
            <a:off x="1115640" y="894240"/>
            <a:ext cx="6821280" cy="167904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15" name="Picture 2" descr="D:\Personal\Desktop\360截图20150305163911673.jpg"/>
          <p:cNvPicPr/>
          <p:nvPr/>
        </p:nvPicPr>
        <p:blipFill>
          <a:blip r:embed="rId1"/>
          <a:stretch/>
        </p:blipFill>
        <p:spPr>
          <a:xfrm>
            <a:off x="4550040" y="952560"/>
            <a:ext cx="3328200" cy="1561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D:\Personal\Desktop\360截图20150305163511689.jpg"/>
          <p:cNvPicPr/>
          <p:nvPr/>
        </p:nvPicPr>
        <p:blipFill>
          <a:blip r:embed="rId2"/>
          <a:srcRect l="0" t="0" r="993" b="2317"/>
          <a:stretch/>
        </p:blipFill>
        <p:spPr>
          <a:xfrm>
            <a:off x="1176840" y="952560"/>
            <a:ext cx="3337200" cy="1561320"/>
          </a:xfrm>
          <a:prstGeom prst="rect">
            <a:avLst/>
          </a:prstGeom>
          <a:ln w="0">
            <a:noFill/>
          </a:ln>
        </p:spPr>
      </p:pic>
      <p:sp>
        <p:nvSpPr>
          <p:cNvPr id="417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矩形 5"/>
          <p:cNvSpPr/>
          <p:nvPr/>
        </p:nvSpPr>
        <p:spPr>
          <a:xfrm>
            <a:off x="2631600" y="3126960"/>
            <a:ext cx="38919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扁平化的设计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我想许多同学多多少少都做过一些，在这里我想说的是扁平化并不难做，难做的是创意流畅的逻辑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动画，扁平化设计需要在排版前就想好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动画的逻辑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根据逻辑性来做，才能一气呵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421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2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D:\Personal\Desktop\150306午间欣赏\063537Qhh.jpg"/>
          <p:cNvPicPr/>
          <p:nvPr/>
        </p:nvPicPr>
        <p:blipFill>
          <a:blip r:embed="rId1"/>
          <a:stretch/>
        </p:blipFill>
        <p:spPr>
          <a:xfrm>
            <a:off x="2153160" y="1450440"/>
            <a:ext cx="4790880" cy="3193920"/>
          </a:xfrm>
          <a:prstGeom prst="rect">
            <a:avLst/>
          </a:prstGeom>
          <a:ln w="0">
            <a:noFill/>
          </a:ln>
        </p:spPr>
      </p:pic>
      <p:sp>
        <p:nvSpPr>
          <p:cNvPr id="424" name="TextBox 152"/>
          <p:cNvSpPr/>
          <p:nvPr/>
        </p:nvSpPr>
        <p:spPr>
          <a:xfrm>
            <a:off x="205596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7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大文字版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056"/>
          <p:cNvSpPr/>
          <p:nvPr/>
        </p:nvSpPr>
        <p:spPr>
          <a:xfrm>
            <a:off x="2055960" y="902880"/>
            <a:ext cx="5001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在过去一年，我看已经看到不少使用大大的标题来排版，简单、有力、有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2058"/>
          <p:cNvSpPr/>
          <p:nvPr/>
        </p:nvSpPr>
        <p:spPr>
          <a:xfrm>
            <a:off x="2153160" y="1404720"/>
            <a:ext cx="4790880" cy="4536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1"/>
          <p:cNvSpPr/>
          <p:nvPr/>
        </p:nvSpPr>
        <p:spPr>
          <a:xfrm>
            <a:off x="1115640" y="894240"/>
            <a:ext cx="6821280" cy="167904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28" name="Picture 2" descr="D:\Personal\Desktop\QQ截图20150305174835.png"/>
          <p:cNvPicPr/>
          <p:nvPr/>
        </p:nvPicPr>
        <p:blipFill>
          <a:blip r:embed="rId1"/>
          <a:srcRect l="0" t="3652" r="0" b="10535"/>
          <a:stretch/>
        </p:blipFill>
        <p:spPr>
          <a:xfrm>
            <a:off x="1167840" y="952560"/>
            <a:ext cx="3327480" cy="1561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D:\Personal\Desktop\360截图20150305175329834.jpg"/>
          <p:cNvPicPr/>
          <p:nvPr/>
        </p:nvPicPr>
        <p:blipFill>
          <a:blip r:embed="rId2"/>
          <a:srcRect l="0" t="0" r="1103" b="0"/>
          <a:stretch/>
        </p:blipFill>
        <p:spPr>
          <a:xfrm>
            <a:off x="4545720" y="952560"/>
            <a:ext cx="3326760" cy="1561320"/>
          </a:xfrm>
          <a:prstGeom prst="rect">
            <a:avLst/>
          </a:prstGeom>
          <a:ln w="0">
            <a:noFill/>
          </a:ln>
        </p:spPr>
      </p:pic>
      <p:sp>
        <p:nvSpPr>
          <p:cNvPr id="430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矩形 5"/>
          <p:cNvSpPr/>
          <p:nvPr/>
        </p:nvSpPr>
        <p:spPr>
          <a:xfrm>
            <a:off x="2631600" y="3126960"/>
            <a:ext cx="3891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我见过最多的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大文字排版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是出现在宣传海报上，为了突出主题，把主题文字排的大大的，很好看的感觉，现在越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越多的大文字排版形式出现在各种设计中，在</a:t>
            </a: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设计中也可以尝试一下这种风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434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5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D:\Personal\Desktop\150306午间欣赏\063536mnw.jpg"/>
          <p:cNvPicPr/>
          <p:nvPr/>
        </p:nvPicPr>
        <p:blipFill>
          <a:blip r:embed="rId1"/>
          <a:stretch/>
        </p:blipFill>
        <p:spPr>
          <a:xfrm>
            <a:off x="2153160" y="1450440"/>
            <a:ext cx="4790880" cy="319392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52"/>
          <p:cNvSpPr/>
          <p:nvPr/>
        </p:nvSpPr>
        <p:spPr>
          <a:xfrm>
            <a:off x="205596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8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几何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2056"/>
          <p:cNvSpPr/>
          <p:nvPr/>
        </p:nvSpPr>
        <p:spPr>
          <a:xfrm>
            <a:off x="2055960" y="902880"/>
            <a:ext cx="5001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你在学校学习几何的时候也许觉得他是很乏味的，但如果能使用得当，将会有大不同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2058"/>
          <p:cNvSpPr/>
          <p:nvPr/>
        </p:nvSpPr>
        <p:spPr>
          <a:xfrm>
            <a:off x="2153160" y="1404720"/>
            <a:ext cx="4790880" cy="4536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1115640" y="894240"/>
            <a:ext cx="6821280" cy="167904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41" name="Picture 3" descr="D:\Personal\Desktop\360截图20150305165851383.jpg"/>
          <p:cNvPicPr/>
          <p:nvPr/>
        </p:nvPicPr>
        <p:blipFill>
          <a:blip r:embed="rId1"/>
          <a:srcRect l="0" t="0" r="3362" b="4660"/>
          <a:stretch/>
        </p:blipFill>
        <p:spPr>
          <a:xfrm>
            <a:off x="4535640" y="952560"/>
            <a:ext cx="3337920" cy="1561320"/>
          </a:xfrm>
          <a:prstGeom prst="rect">
            <a:avLst/>
          </a:prstGeom>
          <a:ln w="0">
            <a:noFill/>
          </a:ln>
        </p:spPr>
      </p:pic>
      <p:sp>
        <p:nvSpPr>
          <p:cNvPr id="442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3" name="矩形 5"/>
          <p:cNvSpPr/>
          <p:nvPr/>
        </p:nvSpPr>
        <p:spPr>
          <a:xfrm>
            <a:off x="2631600" y="3126960"/>
            <a:ext cx="39564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几何设计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是我见过不多的设计，但是总能给我一种莫名的感动在点线面交织的世界里，给人一种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纯粹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的感觉，如果这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风格能把握好的话，绝对能让自己的观众大开眼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446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7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448" name="Picture 2" descr="D:\Personal\Desktop\360截图20150305165832953.jpg"/>
          <p:cNvPicPr/>
          <p:nvPr/>
        </p:nvPicPr>
        <p:blipFill>
          <a:blip r:embed="rId2"/>
          <a:srcRect l="0" t="0" r="3074" b="3581"/>
          <a:stretch/>
        </p:blipFill>
        <p:spPr>
          <a:xfrm>
            <a:off x="1191240" y="961920"/>
            <a:ext cx="3290040" cy="155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D:\Personal\Desktop\150306午间欣赏\063528GAU.jpg"/>
          <p:cNvPicPr/>
          <p:nvPr/>
        </p:nvPicPr>
        <p:blipFill>
          <a:blip r:embed="rId1"/>
          <a:stretch/>
        </p:blipFill>
        <p:spPr>
          <a:xfrm>
            <a:off x="2153160" y="1590840"/>
            <a:ext cx="4790880" cy="319392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52"/>
          <p:cNvSpPr/>
          <p:nvPr/>
        </p:nvSpPr>
        <p:spPr>
          <a:xfrm>
            <a:off x="205596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9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增加插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2056"/>
          <p:cNvSpPr/>
          <p:nvPr/>
        </p:nvSpPr>
        <p:spPr>
          <a:xfrm>
            <a:off x="2055960" y="902880"/>
            <a:ext cx="5001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手绘插图已被利用过一段时间了，为了让访客从外观上感受到更人性化、亲切感，可以尝试在网页上使用手写字体或插图，让访问者脱离沉闷的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Web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体验，并加深对网站的印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058"/>
          <p:cNvSpPr/>
          <p:nvPr/>
        </p:nvSpPr>
        <p:spPr>
          <a:xfrm>
            <a:off x="2153160" y="1545120"/>
            <a:ext cx="4790880" cy="4536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矩形 1"/>
          <p:cNvSpPr/>
          <p:nvPr/>
        </p:nvSpPr>
        <p:spPr>
          <a:xfrm>
            <a:off x="1115640" y="894240"/>
            <a:ext cx="6821280" cy="167904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54" name="Picture 2" descr="D:\Personal\Desktop\QQ截图20150305173114.png"/>
          <p:cNvPicPr/>
          <p:nvPr/>
        </p:nvPicPr>
        <p:blipFill>
          <a:blip r:embed="rId1"/>
          <a:stretch/>
        </p:blipFill>
        <p:spPr>
          <a:xfrm>
            <a:off x="1192680" y="952560"/>
            <a:ext cx="3288600" cy="1580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D:\Personal\Desktop\QQ截图20150305173048.png"/>
          <p:cNvPicPr/>
          <p:nvPr/>
        </p:nvPicPr>
        <p:blipFill>
          <a:blip r:embed="rId2"/>
          <a:stretch/>
        </p:blipFill>
        <p:spPr>
          <a:xfrm>
            <a:off x="4535640" y="952560"/>
            <a:ext cx="3337920" cy="1580400"/>
          </a:xfrm>
          <a:prstGeom prst="rect">
            <a:avLst/>
          </a:prstGeom>
          <a:ln w="0">
            <a:noFill/>
          </a:ln>
        </p:spPr>
      </p:pic>
      <p:sp>
        <p:nvSpPr>
          <p:cNvPr id="456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7" name="矩形 5"/>
          <p:cNvSpPr/>
          <p:nvPr/>
        </p:nvSpPr>
        <p:spPr>
          <a:xfrm>
            <a:off x="2631600" y="3126960"/>
            <a:ext cx="39564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近些年来，越来越多的人开始尝试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插画风格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的设计，这种手绘的风格能拉近人与人之间的距离，让观众感觉到感受到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人性化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、更有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亲切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460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1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52"/>
          <p:cNvSpPr/>
          <p:nvPr/>
        </p:nvSpPr>
        <p:spPr>
          <a:xfrm>
            <a:off x="219564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1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自然摄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056"/>
          <p:cNvSpPr/>
          <p:nvPr/>
        </p:nvSpPr>
        <p:spPr>
          <a:xfrm>
            <a:off x="2195640" y="902880"/>
            <a:ext cx="464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在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2014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年已有很多网站使用高品质的照片作为设计元素，优秀的照片视觉是非常有吸引力的，所以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2015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将会继续这个趋势走下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icture 3"/>
          <p:cNvSpPr/>
          <p:nvPr/>
        </p:nvSpPr>
        <p:spPr>
          <a:xfrm>
            <a:off x="2297160" y="1450440"/>
            <a:ext cx="4540320" cy="302688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058"/>
          <p:cNvSpPr/>
          <p:nvPr/>
        </p:nvSpPr>
        <p:spPr>
          <a:xfrm>
            <a:off x="2292840" y="1381680"/>
            <a:ext cx="4544640" cy="6840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D:\Personal\Desktop\150306午间欣赏\0635415Ci.jpg"/>
          <p:cNvPicPr/>
          <p:nvPr/>
        </p:nvPicPr>
        <p:blipFill>
          <a:blip r:embed="rId1"/>
          <a:stretch/>
        </p:blipFill>
        <p:spPr>
          <a:xfrm>
            <a:off x="2153160" y="1590840"/>
            <a:ext cx="4790880" cy="319392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52"/>
          <p:cNvSpPr/>
          <p:nvPr/>
        </p:nvSpPr>
        <p:spPr>
          <a:xfrm>
            <a:off x="205596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10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更多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Material Design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风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056"/>
          <p:cNvSpPr/>
          <p:nvPr/>
        </p:nvSpPr>
        <p:spPr>
          <a:xfrm>
            <a:off x="2055960" y="902880"/>
            <a:ext cx="5001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Material Design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由谷歌创造，是由扁平化设计中派生出来的风格，这种风格在网页设计中也不少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058"/>
          <p:cNvSpPr/>
          <p:nvPr/>
        </p:nvSpPr>
        <p:spPr>
          <a:xfrm>
            <a:off x="2153160" y="1545120"/>
            <a:ext cx="4790880" cy="4536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1"/>
          <p:cNvSpPr/>
          <p:nvPr/>
        </p:nvSpPr>
        <p:spPr>
          <a:xfrm>
            <a:off x="1115640" y="894240"/>
            <a:ext cx="6821280" cy="167904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67" name="Picture 6" descr="D:\Personal\Desktop\10.1.png"/>
          <p:cNvPicPr/>
          <p:nvPr/>
        </p:nvPicPr>
        <p:blipFill>
          <a:blip r:embed="rId1"/>
          <a:srcRect l="0" t="0" r="6567" b="0"/>
          <a:stretch/>
        </p:blipFill>
        <p:spPr>
          <a:xfrm>
            <a:off x="1191240" y="952560"/>
            <a:ext cx="3290040" cy="1561320"/>
          </a:xfrm>
          <a:prstGeom prst="rect">
            <a:avLst/>
          </a:prstGeom>
          <a:ln w="0">
            <a:noFill/>
          </a:ln>
        </p:spPr>
      </p:pic>
      <p:sp>
        <p:nvSpPr>
          <p:cNvPr id="468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9" name="矩形 5"/>
          <p:cNvSpPr/>
          <p:nvPr/>
        </p:nvSpPr>
        <p:spPr>
          <a:xfrm>
            <a:off x="2631600" y="3126960"/>
            <a:ext cx="395640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Material Design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是谷歌推出的一种全新的设计语言。谷歌表示，这种设计语言旨在为手机、平板电脑、台式机和“其他平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”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提供更一致、更广泛的外观和感觉</a:t>
            </a: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”。我们也可以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设计中融入一些电子产品，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电子里展示自己要演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的内容，更易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观众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认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接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472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3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474" name="Picture 7" descr="D:\Personal\Desktop\150306午间欣赏\QQ截图20150305113154.png"/>
          <p:cNvPicPr/>
          <p:nvPr/>
        </p:nvPicPr>
        <p:blipFill>
          <a:blip r:embed="rId2"/>
          <a:stretch/>
        </p:blipFill>
        <p:spPr>
          <a:xfrm>
            <a:off x="4557600" y="958680"/>
            <a:ext cx="3275280" cy="15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组合 105"/>
          <p:cNvGrpSpPr/>
          <p:nvPr/>
        </p:nvGrpSpPr>
        <p:grpSpPr>
          <a:xfrm>
            <a:off x="3973320" y="1495800"/>
            <a:ext cx="1340280" cy="362520"/>
            <a:chOff x="3973320" y="1495800"/>
            <a:chExt cx="1340280" cy="362520"/>
          </a:xfrm>
        </p:grpSpPr>
        <p:grpSp>
          <p:nvGrpSpPr>
            <p:cNvPr id="476" name="组合 97"/>
            <p:cNvGrpSpPr/>
            <p:nvPr/>
          </p:nvGrpSpPr>
          <p:grpSpPr>
            <a:xfrm>
              <a:off x="3973320" y="1509480"/>
              <a:ext cx="209160" cy="337320"/>
              <a:chOff x="3973320" y="1509480"/>
              <a:chExt cx="209160" cy="337320"/>
            </a:xfrm>
          </p:grpSpPr>
          <p:sp>
            <p:nvSpPr>
              <p:cNvPr id="477" name="AutoShape 6"/>
              <p:cNvSpPr/>
              <p:nvPr/>
            </p:nvSpPr>
            <p:spPr>
              <a:xfrm>
                <a:off x="3974760" y="1513800"/>
                <a:ext cx="20628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8"/>
              <p:cNvSpPr/>
              <p:nvPr/>
            </p:nvSpPr>
            <p:spPr>
              <a:xfrm>
                <a:off x="4002120" y="1627560"/>
                <a:ext cx="167400" cy="16452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385" h="1526">
                    <a:moveTo>
                      <a:pt x="1360" y="575"/>
                    </a:moveTo>
                    <a:cubicBezTo>
                      <a:pt x="1334" y="519"/>
                      <a:pt x="1268" y="494"/>
                      <a:pt x="1213" y="520"/>
                    </a:cubicBezTo>
                    <a:cubicBezTo>
                      <a:pt x="987" y="622"/>
                      <a:pt x="832" y="747"/>
                      <a:pt x="726" y="874"/>
                    </a:cubicBezTo>
                    <a:cubicBezTo>
                      <a:pt x="726" y="111"/>
                      <a:pt x="726" y="111"/>
                      <a:pt x="726" y="111"/>
                    </a:cubicBezTo>
                    <a:cubicBezTo>
                      <a:pt x="726" y="49"/>
                      <a:pt x="676" y="0"/>
                      <a:pt x="615" y="0"/>
                    </a:cubicBezTo>
                    <a:cubicBezTo>
                      <a:pt x="553" y="0"/>
                      <a:pt x="504" y="49"/>
                      <a:pt x="504" y="111"/>
                    </a:cubicBezTo>
                    <a:cubicBezTo>
                      <a:pt x="504" y="576"/>
                      <a:pt x="504" y="576"/>
                      <a:pt x="504" y="576"/>
                    </a:cubicBezTo>
                    <a:cubicBezTo>
                      <a:pt x="425" y="487"/>
                      <a:pt x="321" y="390"/>
                      <a:pt x="188" y="302"/>
                    </a:cubicBezTo>
                    <a:cubicBezTo>
                      <a:pt x="137" y="268"/>
                      <a:pt x="68" y="282"/>
                      <a:pt x="34" y="333"/>
                    </a:cubicBezTo>
                    <a:cubicBezTo>
                      <a:pt x="0" y="385"/>
                      <a:pt x="14" y="454"/>
                      <a:pt x="65" y="487"/>
                    </a:cubicBezTo>
                    <a:cubicBezTo>
                      <a:pt x="345" y="673"/>
                      <a:pt x="475" y="906"/>
                      <a:pt x="504" y="961"/>
                    </a:cubicBezTo>
                    <a:cubicBezTo>
                      <a:pt x="504" y="1415"/>
                      <a:pt x="504" y="1415"/>
                      <a:pt x="504" y="1415"/>
                    </a:cubicBezTo>
                    <a:cubicBezTo>
                      <a:pt x="504" y="1417"/>
                      <a:pt x="504" y="1419"/>
                      <a:pt x="504" y="1421"/>
                    </a:cubicBezTo>
                    <a:cubicBezTo>
                      <a:pt x="505" y="1426"/>
                      <a:pt x="505" y="1430"/>
                      <a:pt x="506" y="1434"/>
                    </a:cubicBezTo>
                    <a:cubicBezTo>
                      <a:pt x="506" y="1437"/>
                      <a:pt x="507" y="1440"/>
                      <a:pt x="508" y="1443"/>
                    </a:cubicBezTo>
                    <a:cubicBezTo>
                      <a:pt x="509" y="1447"/>
                      <a:pt x="510" y="1451"/>
                      <a:pt x="511" y="1455"/>
                    </a:cubicBezTo>
                    <a:cubicBezTo>
                      <a:pt x="513" y="1458"/>
                      <a:pt x="514" y="1461"/>
                      <a:pt x="515" y="1464"/>
                    </a:cubicBezTo>
                    <a:cubicBezTo>
                      <a:pt x="517" y="1467"/>
                      <a:pt x="519" y="1470"/>
                      <a:pt x="521" y="1474"/>
                    </a:cubicBezTo>
                    <a:cubicBezTo>
                      <a:pt x="523" y="1477"/>
                      <a:pt x="525" y="1479"/>
                      <a:pt x="527" y="1482"/>
                    </a:cubicBezTo>
                    <a:cubicBezTo>
                      <a:pt x="529" y="1485"/>
                      <a:pt x="531" y="1488"/>
                      <a:pt x="534" y="1491"/>
                    </a:cubicBezTo>
                    <a:cubicBezTo>
                      <a:pt x="536" y="1493"/>
                      <a:pt x="538" y="1495"/>
                      <a:pt x="541" y="1497"/>
                    </a:cubicBezTo>
                    <a:cubicBezTo>
                      <a:pt x="544" y="1500"/>
                      <a:pt x="547" y="1502"/>
                      <a:pt x="550" y="1505"/>
                    </a:cubicBezTo>
                    <a:cubicBezTo>
                      <a:pt x="552" y="1507"/>
                      <a:pt x="555" y="1508"/>
                      <a:pt x="558" y="1510"/>
                    </a:cubicBezTo>
                    <a:cubicBezTo>
                      <a:pt x="561" y="1512"/>
                      <a:pt x="565" y="1514"/>
                      <a:pt x="568" y="1515"/>
                    </a:cubicBezTo>
                    <a:cubicBezTo>
                      <a:pt x="571" y="1517"/>
                      <a:pt x="574" y="1518"/>
                      <a:pt x="578" y="1519"/>
                    </a:cubicBezTo>
                    <a:cubicBezTo>
                      <a:pt x="581" y="1521"/>
                      <a:pt x="585" y="1522"/>
                      <a:pt x="588" y="1523"/>
                    </a:cubicBezTo>
                    <a:cubicBezTo>
                      <a:pt x="592" y="1524"/>
                      <a:pt x="596" y="1524"/>
                      <a:pt x="600" y="1525"/>
                    </a:cubicBezTo>
                    <a:cubicBezTo>
                      <a:pt x="602" y="1525"/>
                      <a:pt x="604" y="1526"/>
                      <a:pt x="606" y="1526"/>
                    </a:cubicBezTo>
                    <a:cubicBezTo>
                      <a:pt x="609" y="1526"/>
                      <a:pt x="612" y="1526"/>
                      <a:pt x="615" y="1526"/>
                    </a:cubicBezTo>
                    <a:cubicBezTo>
                      <a:pt x="615" y="1526"/>
                      <a:pt x="615" y="1526"/>
                      <a:pt x="615" y="1526"/>
                    </a:cubicBezTo>
                    <a:cubicBezTo>
                      <a:pt x="615" y="1526"/>
                      <a:pt x="615" y="1526"/>
                      <a:pt x="615" y="1526"/>
                    </a:cubicBezTo>
                    <a:cubicBezTo>
                      <a:pt x="615" y="1526"/>
                      <a:pt x="615" y="1526"/>
                      <a:pt x="615" y="1526"/>
                    </a:cubicBezTo>
                    <a:cubicBezTo>
                      <a:pt x="622" y="1526"/>
                      <a:pt x="630" y="1525"/>
                      <a:pt x="637" y="1524"/>
                    </a:cubicBezTo>
                    <a:cubicBezTo>
                      <a:pt x="639" y="1523"/>
                      <a:pt x="642" y="1522"/>
                      <a:pt x="644" y="1522"/>
                    </a:cubicBezTo>
                    <a:cubicBezTo>
                      <a:pt x="649" y="1521"/>
                      <a:pt x="653" y="1519"/>
                      <a:pt x="657" y="1518"/>
                    </a:cubicBezTo>
                    <a:cubicBezTo>
                      <a:pt x="660" y="1517"/>
                      <a:pt x="663" y="1515"/>
                      <a:pt x="666" y="1513"/>
                    </a:cubicBezTo>
                    <a:cubicBezTo>
                      <a:pt x="669" y="1512"/>
                      <a:pt x="672" y="1510"/>
                      <a:pt x="675" y="1508"/>
                    </a:cubicBezTo>
                    <a:cubicBezTo>
                      <a:pt x="678" y="1506"/>
                      <a:pt x="681" y="1504"/>
                      <a:pt x="683" y="1502"/>
                    </a:cubicBezTo>
                    <a:cubicBezTo>
                      <a:pt x="686" y="1500"/>
                      <a:pt x="689" y="1498"/>
                      <a:pt x="692" y="1495"/>
                    </a:cubicBezTo>
                    <a:cubicBezTo>
                      <a:pt x="694" y="1493"/>
                      <a:pt x="696" y="1490"/>
                      <a:pt x="698" y="1488"/>
                    </a:cubicBezTo>
                    <a:cubicBezTo>
                      <a:pt x="701" y="1485"/>
                      <a:pt x="703" y="1482"/>
                      <a:pt x="705" y="1479"/>
                    </a:cubicBezTo>
                    <a:cubicBezTo>
                      <a:pt x="707" y="1477"/>
                      <a:pt x="709" y="1474"/>
                      <a:pt x="711" y="1471"/>
                    </a:cubicBezTo>
                    <a:cubicBezTo>
                      <a:pt x="712" y="1468"/>
                      <a:pt x="714" y="1465"/>
                      <a:pt x="716" y="1461"/>
                    </a:cubicBezTo>
                    <a:cubicBezTo>
                      <a:pt x="717" y="1458"/>
                      <a:pt x="718" y="1455"/>
                      <a:pt x="719" y="1451"/>
                    </a:cubicBezTo>
                    <a:cubicBezTo>
                      <a:pt x="721" y="1448"/>
                      <a:pt x="722" y="1445"/>
                      <a:pt x="723" y="1441"/>
                    </a:cubicBezTo>
                    <a:cubicBezTo>
                      <a:pt x="723" y="1438"/>
                      <a:pt x="724" y="1434"/>
                      <a:pt x="725" y="1430"/>
                    </a:cubicBezTo>
                    <a:cubicBezTo>
                      <a:pt x="725" y="1428"/>
                      <a:pt x="725" y="1426"/>
                      <a:pt x="726" y="1423"/>
                    </a:cubicBezTo>
                    <a:cubicBezTo>
                      <a:pt x="741" y="1216"/>
                      <a:pt x="855" y="927"/>
                      <a:pt x="1305" y="722"/>
                    </a:cubicBezTo>
                    <a:cubicBezTo>
                      <a:pt x="1361" y="697"/>
                      <a:pt x="1385" y="631"/>
                      <a:pt x="1360" y="575"/>
                    </a:cubicBezTo>
                    <a:close/>
                  </a:path>
                </a:pathLst>
              </a:custGeom>
              <a:solidFill>
                <a:srgbClr val="8fc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9"/>
              <p:cNvSpPr/>
              <p:nvPr/>
            </p:nvSpPr>
            <p:spPr>
              <a:xfrm>
                <a:off x="4006440" y="1509480"/>
                <a:ext cx="142560" cy="1504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175" h="1245">
                    <a:moveTo>
                      <a:pt x="1051" y="639"/>
                    </a:moveTo>
                    <a:cubicBezTo>
                      <a:pt x="1135" y="589"/>
                      <a:pt x="1175" y="524"/>
                      <a:pt x="1175" y="460"/>
                    </a:cubicBezTo>
                    <a:cubicBezTo>
                      <a:pt x="1175" y="384"/>
                      <a:pt x="1116" y="303"/>
                      <a:pt x="989" y="303"/>
                    </a:cubicBezTo>
                    <a:cubicBezTo>
                      <a:pt x="970" y="303"/>
                      <a:pt x="949" y="305"/>
                      <a:pt x="928" y="308"/>
                    </a:cubicBezTo>
                    <a:cubicBezTo>
                      <a:pt x="944" y="248"/>
                      <a:pt x="942" y="194"/>
                      <a:pt x="924" y="148"/>
                    </a:cubicBezTo>
                    <a:cubicBezTo>
                      <a:pt x="876" y="33"/>
                      <a:pt x="720" y="0"/>
                      <a:pt x="607" y="162"/>
                    </a:cubicBezTo>
                    <a:cubicBezTo>
                      <a:pt x="592" y="137"/>
                      <a:pt x="576" y="116"/>
                      <a:pt x="558" y="99"/>
                    </a:cubicBezTo>
                    <a:cubicBezTo>
                      <a:pt x="509" y="49"/>
                      <a:pt x="460" y="39"/>
                      <a:pt x="428" y="39"/>
                    </a:cubicBezTo>
                    <a:cubicBezTo>
                      <a:pt x="369" y="39"/>
                      <a:pt x="315" y="75"/>
                      <a:pt x="289" y="132"/>
                    </a:cubicBezTo>
                    <a:cubicBezTo>
                      <a:pt x="270" y="175"/>
                      <a:pt x="266" y="227"/>
                      <a:pt x="276" y="286"/>
                    </a:cubicBezTo>
                    <a:cubicBezTo>
                      <a:pt x="249" y="279"/>
                      <a:pt x="222" y="275"/>
                      <a:pt x="197" y="275"/>
                    </a:cubicBezTo>
                    <a:cubicBezTo>
                      <a:pt x="79" y="275"/>
                      <a:pt x="22" y="353"/>
                      <a:pt x="20" y="425"/>
                    </a:cubicBezTo>
                    <a:cubicBezTo>
                      <a:pt x="18" y="487"/>
                      <a:pt x="53" y="552"/>
                      <a:pt x="131" y="606"/>
                    </a:cubicBezTo>
                    <a:cubicBezTo>
                      <a:pt x="86" y="633"/>
                      <a:pt x="52" y="665"/>
                      <a:pt x="31" y="702"/>
                    </a:cubicBezTo>
                    <a:cubicBezTo>
                      <a:pt x="1" y="753"/>
                      <a:pt x="0" y="812"/>
                      <a:pt x="27" y="860"/>
                    </a:cubicBezTo>
                    <a:cubicBezTo>
                      <a:pt x="66" y="926"/>
                      <a:pt x="152" y="955"/>
                      <a:pt x="254" y="937"/>
                    </a:cubicBezTo>
                    <a:cubicBezTo>
                      <a:pt x="238" y="997"/>
                      <a:pt x="240" y="1052"/>
                      <a:pt x="258" y="1097"/>
                    </a:cubicBezTo>
                    <a:cubicBezTo>
                      <a:pt x="306" y="1212"/>
                      <a:pt x="461" y="1245"/>
                      <a:pt x="575" y="1084"/>
                    </a:cubicBezTo>
                    <a:cubicBezTo>
                      <a:pt x="590" y="1108"/>
                      <a:pt x="606" y="1129"/>
                      <a:pt x="624" y="1147"/>
                    </a:cubicBezTo>
                    <a:cubicBezTo>
                      <a:pt x="673" y="1196"/>
                      <a:pt x="721" y="1206"/>
                      <a:pt x="754" y="1206"/>
                    </a:cubicBezTo>
                    <a:cubicBezTo>
                      <a:pt x="754" y="1206"/>
                      <a:pt x="754" y="1206"/>
                      <a:pt x="754" y="1206"/>
                    </a:cubicBezTo>
                    <a:cubicBezTo>
                      <a:pt x="814" y="1206"/>
                      <a:pt x="867" y="1171"/>
                      <a:pt x="893" y="1114"/>
                    </a:cubicBezTo>
                    <a:cubicBezTo>
                      <a:pt x="912" y="1070"/>
                      <a:pt x="916" y="1018"/>
                      <a:pt x="906" y="960"/>
                    </a:cubicBezTo>
                    <a:cubicBezTo>
                      <a:pt x="933" y="967"/>
                      <a:pt x="960" y="970"/>
                      <a:pt x="985" y="970"/>
                    </a:cubicBezTo>
                    <a:cubicBezTo>
                      <a:pt x="985" y="970"/>
                      <a:pt x="985" y="970"/>
                      <a:pt x="985" y="970"/>
                    </a:cubicBezTo>
                    <a:cubicBezTo>
                      <a:pt x="1103" y="970"/>
                      <a:pt x="1160" y="892"/>
                      <a:pt x="1162" y="820"/>
                    </a:cubicBezTo>
                    <a:cubicBezTo>
                      <a:pt x="1164" y="758"/>
                      <a:pt x="1129" y="693"/>
                      <a:pt x="1051" y="639"/>
                    </a:cubicBezTo>
                    <a:close/>
                    <a:moveTo>
                      <a:pt x="966" y="752"/>
                    </a:moveTo>
                    <a:cubicBezTo>
                      <a:pt x="965" y="800"/>
                      <a:pt x="928" y="851"/>
                      <a:pt x="850" y="851"/>
                    </a:cubicBezTo>
                    <a:cubicBezTo>
                      <a:pt x="850" y="851"/>
                      <a:pt x="850" y="851"/>
                      <a:pt x="850" y="851"/>
                    </a:cubicBezTo>
                    <a:cubicBezTo>
                      <a:pt x="833" y="851"/>
                      <a:pt x="816" y="849"/>
                      <a:pt x="798" y="844"/>
                    </a:cubicBezTo>
                    <a:cubicBezTo>
                      <a:pt x="805" y="883"/>
                      <a:pt x="802" y="917"/>
                      <a:pt x="789" y="945"/>
                    </a:cubicBezTo>
                    <a:cubicBezTo>
                      <a:pt x="772" y="983"/>
                      <a:pt x="737" y="1006"/>
                      <a:pt x="698" y="1006"/>
                    </a:cubicBezTo>
                    <a:cubicBezTo>
                      <a:pt x="698" y="1006"/>
                      <a:pt x="698" y="1006"/>
                      <a:pt x="698" y="1006"/>
                    </a:cubicBezTo>
                    <a:cubicBezTo>
                      <a:pt x="677" y="1006"/>
                      <a:pt x="645" y="999"/>
                      <a:pt x="612" y="967"/>
                    </a:cubicBezTo>
                    <a:cubicBezTo>
                      <a:pt x="601" y="955"/>
                      <a:pt x="590" y="942"/>
                      <a:pt x="581" y="926"/>
                    </a:cubicBezTo>
                    <a:cubicBezTo>
                      <a:pt x="506" y="1032"/>
                      <a:pt x="404" y="1010"/>
                      <a:pt x="373" y="935"/>
                    </a:cubicBezTo>
                    <a:cubicBezTo>
                      <a:pt x="360" y="905"/>
                      <a:pt x="359" y="869"/>
                      <a:pt x="369" y="829"/>
                    </a:cubicBezTo>
                    <a:cubicBezTo>
                      <a:pt x="302" y="841"/>
                      <a:pt x="246" y="822"/>
                      <a:pt x="221" y="778"/>
                    </a:cubicBezTo>
                    <a:cubicBezTo>
                      <a:pt x="203" y="747"/>
                      <a:pt x="203" y="708"/>
                      <a:pt x="223" y="675"/>
                    </a:cubicBezTo>
                    <a:cubicBezTo>
                      <a:pt x="237" y="651"/>
                      <a:pt x="259" y="630"/>
                      <a:pt x="289" y="612"/>
                    </a:cubicBezTo>
                    <a:cubicBezTo>
                      <a:pt x="238" y="576"/>
                      <a:pt x="214" y="534"/>
                      <a:pt x="216" y="493"/>
                    </a:cubicBezTo>
                    <a:cubicBezTo>
                      <a:pt x="217" y="445"/>
                      <a:pt x="254" y="394"/>
                      <a:pt x="332" y="394"/>
                    </a:cubicBezTo>
                    <a:cubicBezTo>
                      <a:pt x="349" y="394"/>
                      <a:pt x="366" y="397"/>
                      <a:pt x="384" y="401"/>
                    </a:cubicBezTo>
                    <a:cubicBezTo>
                      <a:pt x="377" y="363"/>
                      <a:pt x="380" y="328"/>
                      <a:pt x="393" y="300"/>
                    </a:cubicBezTo>
                    <a:cubicBezTo>
                      <a:pt x="410" y="262"/>
                      <a:pt x="445" y="239"/>
                      <a:pt x="484" y="239"/>
                    </a:cubicBezTo>
                    <a:cubicBezTo>
                      <a:pt x="505" y="239"/>
                      <a:pt x="537" y="246"/>
                      <a:pt x="570" y="278"/>
                    </a:cubicBezTo>
                    <a:cubicBezTo>
                      <a:pt x="581" y="290"/>
                      <a:pt x="592" y="304"/>
                      <a:pt x="601" y="320"/>
                    </a:cubicBezTo>
                    <a:cubicBezTo>
                      <a:pt x="676" y="214"/>
                      <a:pt x="778" y="235"/>
                      <a:pt x="810" y="311"/>
                    </a:cubicBezTo>
                    <a:cubicBezTo>
                      <a:pt x="822" y="341"/>
                      <a:pt x="823" y="376"/>
                      <a:pt x="813" y="416"/>
                    </a:cubicBezTo>
                    <a:cubicBezTo>
                      <a:pt x="827" y="414"/>
                      <a:pt x="840" y="412"/>
                      <a:pt x="853" y="412"/>
                    </a:cubicBezTo>
                    <a:cubicBezTo>
                      <a:pt x="936" y="412"/>
                      <a:pt x="975" y="466"/>
                      <a:pt x="975" y="516"/>
                    </a:cubicBezTo>
                    <a:cubicBezTo>
                      <a:pt x="975" y="558"/>
                      <a:pt x="948" y="600"/>
                      <a:pt x="893" y="633"/>
                    </a:cubicBezTo>
                    <a:cubicBezTo>
                      <a:pt x="944" y="669"/>
                      <a:pt x="968" y="712"/>
                      <a:pt x="966" y="752"/>
                    </a:cubicBezTo>
                    <a:close/>
                  </a:path>
                </a:pathLst>
              </a:custGeom>
              <a:solidFill>
                <a:srgbClr val="ffeb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10"/>
              <p:cNvSpPr/>
              <p:nvPr/>
            </p:nvSpPr>
            <p:spPr>
              <a:xfrm>
                <a:off x="3973320" y="1770480"/>
                <a:ext cx="209160" cy="5544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724" h="463">
                    <a:moveTo>
                      <a:pt x="1602" y="454"/>
                    </a:moveTo>
                    <a:cubicBezTo>
                      <a:pt x="1573" y="454"/>
                      <a:pt x="1544" y="443"/>
                      <a:pt x="1522" y="420"/>
                    </a:cubicBezTo>
                    <a:cubicBezTo>
                      <a:pt x="1405" y="300"/>
                      <a:pt x="1146" y="223"/>
                      <a:pt x="861" y="223"/>
                    </a:cubicBezTo>
                    <a:cubicBezTo>
                      <a:pt x="578" y="223"/>
                      <a:pt x="319" y="300"/>
                      <a:pt x="202" y="419"/>
                    </a:cubicBezTo>
                    <a:cubicBezTo>
                      <a:pt x="159" y="463"/>
                      <a:pt x="88" y="463"/>
                      <a:pt x="44" y="420"/>
                    </a:cubicBezTo>
                    <a:cubicBezTo>
                      <a:pt x="1" y="377"/>
                      <a:pt x="0" y="306"/>
                      <a:pt x="43" y="263"/>
                    </a:cubicBezTo>
                    <a:cubicBezTo>
                      <a:pt x="203" y="101"/>
                      <a:pt x="516" y="0"/>
                      <a:pt x="861" y="0"/>
                    </a:cubicBezTo>
                    <a:cubicBezTo>
                      <a:pt x="1208" y="0"/>
                      <a:pt x="1522" y="102"/>
                      <a:pt x="1681" y="266"/>
                    </a:cubicBezTo>
                    <a:cubicBezTo>
                      <a:pt x="1724" y="310"/>
                      <a:pt x="1723" y="380"/>
                      <a:pt x="1679" y="423"/>
                    </a:cubicBezTo>
                    <a:cubicBezTo>
                      <a:pt x="1657" y="444"/>
                      <a:pt x="1629" y="454"/>
                      <a:pt x="1602" y="454"/>
                    </a:cubicBezTo>
                    <a:close/>
                  </a:path>
                </a:pathLst>
              </a:custGeom>
              <a:solidFill>
                <a:srgbClr val="ffe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Oval 11"/>
              <p:cNvSpPr/>
              <p:nvPr/>
            </p:nvSpPr>
            <p:spPr>
              <a:xfrm>
                <a:off x="4052520" y="1559160"/>
                <a:ext cx="51120" cy="50040"/>
              </a:xfrm>
              <a:prstGeom prst="ellipse">
                <a:avLst/>
              </a:prstGeom>
              <a:solidFill>
                <a:srgbClr val="f8b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2" name="TextBox 103"/>
            <p:cNvSpPr/>
            <p:nvPr/>
          </p:nvSpPr>
          <p:spPr>
            <a:xfrm>
              <a:off x="4159440" y="1495800"/>
              <a:ext cx="1154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张海山锐线体2.0"/>
                  <a:ea typeface="张海山锐线体2.0"/>
                </a:rPr>
                <a:t>向阳的</a:t>
              </a:r>
              <a:r>
                <a:rPr b="0" lang="zh-CN" sz="1050" spc="-1" strike="noStrike">
                  <a:solidFill>
                    <a:srgbClr val="0686c8"/>
                  </a:solidFill>
                  <a:latin typeface="张海山锐线体2.0"/>
                  <a:ea typeface="张海山锐线体2.0"/>
                </a:rPr>
                <a:t>小七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04"/>
            <p:cNvSpPr/>
            <p:nvPr/>
          </p:nvSpPr>
          <p:spPr>
            <a:xfrm>
              <a:off x="4149360" y="1647000"/>
              <a:ext cx="1110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d0d0d"/>
                  </a:solidFill>
                  <a:latin typeface="张海山锐线体2.0"/>
                  <a:ea typeface="张海山锐线体2.0"/>
                </a:rPr>
                <a:t>Sunshine sev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106"/>
          <p:cNvSpPr/>
          <p:nvPr/>
        </p:nvSpPr>
        <p:spPr>
          <a:xfrm>
            <a:off x="2314080" y="2235600"/>
            <a:ext cx="4045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97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THANK              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D:\Personal\Desktop\QQ截图20150306113741.png"/>
          <p:cNvPicPr/>
          <p:nvPr/>
        </p:nvPicPr>
        <p:blipFill>
          <a:blip r:embed="rId1"/>
          <a:stretch/>
        </p:blipFill>
        <p:spPr>
          <a:xfrm>
            <a:off x="3937320" y="187560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486" name="矩形 108"/>
          <p:cNvSpPr/>
          <p:nvPr/>
        </p:nvSpPr>
        <p:spPr>
          <a:xfrm>
            <a:off x="3956040" y="3356280"/>
            <a:ext cx="1034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微博：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Mo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尛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107">
            <a:hlinkClick r:id="rId2"/>
          </p:cNvPr>
          <p:cNvSpPr/>
          <p:nvPr/>
        </p:nvSpPr>
        <p:spPr>
          <a:xfrm>
            <a:off x="3162600" y="3521880"/>
            <a:ext cx="2651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http://weibo.com/u/2477801747/home?wvr=5&amp;lf=r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13"/>
          <p:cNvSpPr/>
          <p:nvPr/>
        </p:nvSpPr>
        <p:spPr>
          <a:xfrm>
            <a:off x="3956040" y="3029040"/>
            <a:ext cx="1064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花瓣：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Mo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尛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114">
            <a:hlinkClick r:id="rId3"/>
          </p:cNvPr>
          <p:cNvSpPr/>
          <p:nvPr/>
        </p:nvSpPr>
        <p:spPr>
          <a:xfrm>
            <a:off x="3871800" y="3184560"/>
            <a:ext cx="12322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http://huaban.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48" name="组合 9"/>
          <p:cNvGrpSpPr/>
          <p:nvPr/>
        </p:nvGrpSpPr>
        <p:grpSpPr>
          <a:xfrm>
            <a:off x="1115640" y="894240"/>
            <a:ext cx="6821280" cy="1679040"/>
            <a:chOff x="1115640" y="894240"/>
            <a:chExt cx="6821280" cy="1679040"/>
          </a:xfrm>
        </p:grpSpPr>
        <p:sp>
          <p:nvSpPr>
            <p:cNvPr id="349" name="矩形 1"/>
            <p:cNvSpPr/>
            <p:nvPr/>
          </p:nvSpPr>
          <p:spPr>
            <a:xfrm>
              <a:off x="1115640" y="894240"/>
              <a:ext cx="6821280" cy="1679040"/>
            </a:xfrm>
            <a:prstGeom prst="rect">
              <a:avLst/>
            </a:prstGeom>
            <a:solidFill>
              <a:srgbClr val="0686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50" name="Picture 3" descr="D:\Personal\Desktop\360截图20150305152026960.jpg"/>
            <p:cNvPicPr/>
            <p:nvPr/>
          </p:nvPicPr>
          <p:blipFill>
            <a:blip r:embed="rId1"/>
            <a:srcRect l="0" t="0" r="1988" b="0"/>
            <a:stretch/>
          </p:blipFill>
          <p:spPr>
            <a:xfrm>
              <a:off x="4600440" y="943560"/>
              <a:ext cx="3280680" cy="15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" descr="D:\Personal\Desktop\QQ截图20150305112804.png"/>
            <p:cNvPicPr/>
            <p:nvPr/>
          </p:nvPicPr>
          <p:blipFill>
            <a:blip r:embed="rId2"/>
            <a:stretch/>
          </p:blipFill>
          <p:spPr>
            <a:xfrm>
              <a:off x="1177920" y="942120"/>
              <a:ext cx="3358080" cy="158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矩形 5"/>
          <p:cNvSpPr/>
          <p:nvPr/>
        </p:nvSpPr>
        <p:spPr>
          <a:xfrm>
            <a:off x="2654280" y="3180600"/>
            <a:ext cx="38919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我在</a:t>
            </a: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iOS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组一次晚间欣赏中讲过一期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开放式场景的运用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其实跟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自然摄影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这个形式是大同小异的，都是用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质量的图片做为底图，进行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透明蒙版处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或者给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图片模糊处理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，都是一种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好的方法，这种风格有很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的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视觉冲击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355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6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52"/>
          <p:cNvSpPr/>
          <p:nvPr/>
        </p:nvSpPr>
        <p:spPr>
          <a:xfrm>
            <a:off x="205596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2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单色网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056"/>
          <p:cNvSpPr/>
          <p:nvPr/>
        </p:nvSpPr>
        <p:spPr>
          <a:xfrm>
            <a:off x="2055960" y="902880"/>
            <a:ext cx="5001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网站设计元素的背景、文本颜色、图像等都使用同一色系，这样的单色网页也许会更有吸引力，并让访客对你的品牌网站有着深刻的印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058"/>
          <p:cNvSpPr/>
          <p:nvPr/>
        </p:nvSpPr>
        <p:spPr>
          <a:xfrm>
            <a:off x="2153160" y="1404720"/>
            <a:ext cx="4790880" cy="4536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60" name="Picture 2" descr="D:\Personal\Desktop\150306午间欣赏\063517nZQ.jpg"/>
          <p:cNvPicPr/>
          <p:nvPr/>
        </p:nvPicPr>
        <p:blipFill>
          <a:blip r:embed="rId1"/>
          <a:stretch/>
        </p:blipFill>
        <p:spPr>
          <a:xfrm>
            <a:off x="2153160" y="1449000"/>
            <a:ext cx="4790880" cy="285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1115640" y="894240"/>
            <a:ext cx="6821280" cy="167904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62" name="Picture 2" descr="D:\Personal\Desktop\360截图20150305154123872.jpg"/>
          <p:cNvPicPr/>
          <p:nvPr/>
        </p:nvPicPr>
        <p:blipFill>
          <a:blip r:embed="rId1"/>
          <a:srcRect l="0" t="0" r="2355" b="0"/>
          <a:stretch/>
        </p:blipFill>
        <p:spPr>
          <a:xfrm>
            <a:off x="4600440" y="942120"/>
            <a:ext cx="3280680" cy="15886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D:\Personal\Desktop\360截图20150305154026755.jpg"/>
          <p:cNvPicPr/>
          <p:nvPr/>
        </p:nvPicPr>
        <p:blipFill>
          <a:blip r:embed="rId2"/>
          <a:srcRect l="0" t="0" r="1092" b="4786"/>
          <a:stretch/>
        </p:blipFill>
        <p:spPr>
          <a:xfrm>
            <a:off x="1177920" y="943560"/>
            <a:ext cx="3358080" cy="1587240"/>
          </a:xfrm>
          <a:prstGeom prst="rect">
            <a:avLst/>
          </a:prstGeom>
          <a:ln w="0">
            <a:noFill/>
          </a:ln>
        </p:spPr>
      </p:pic>
      <p:sp>
        <p:nvSpPr>
          <p:cNvPr id="364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矩形 5"/>
          <p:cNvSpPr/>
          <p:nvPr/>
        </p:nvSpPr>
        <p:spPr>
          <a:xfrm>
            <a:off x="2631600" y="3126960"/>
            <a:ext cx="3891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这里所谓的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单色系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是指在一套模板的设计上只用一个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主题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这样做可以使模板整体统一，主色调起强调的作用，这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会使别人一目了然你想要表达的是什么，也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使模板看起来更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简约时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368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9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52"/>
          <p:cNvSpPr/>
          <p:nvPr/>
        </p:nvSpPr>
        <p:spPr>
          <a:xfrm>
            <a:off x="205596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3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独特的导航菜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056"/>
          <p:cNvSpPr/>
          <p:nvPr/>
        </p:nvSpPr>
        <p:spPr>
          <a:xfrm>
            <a:off x="2055960" y="902880"/>
            <a:ext cx="5001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网站导航不再那么死板，将出现更多创意的方案，向下滑动、向上滑动、弹出、动态动画、二次信息展示等有助于创造令人难忘的浏览体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058"/>
          <p:cNvSpPr/>
          <p:nvPr/>
        </p:nvSpPr>
        <p:spPr>
          <a:xfrm>
            <a:off x="2153160" y="1404720"/>
            <a:ext cx="4790880" cy="4536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73" name="Picture 2" descr="D:\Personal\Desktop\QQ截图20150305112907.png"/>
          <p:cNvPicPr/>
          <p:nvPr/>
        </p:nvPicPr>
        <p:blipFill>
          <a:blip r:embed="rId1"/>
          <a:srcRect l="3290" t="0" r="2668" b="0"/>
          <a:stretch/>
        </p:blipFill>
        <p:spPr>
          <a:xfrm>
            <a:off x="2153160" y="1447200"/>
            <a:ext cx="4790880" cy="24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1"/>
          <p:cNvSpPr/>
          <p:nvPr/>
        </p:nvSpPr>
        <p:spPr>
          <a:xfrm>
            <a:off x="1115640" y="894240"/>
            <a:ext cx="6821280" cy="167904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75" name="Picture 2" descr="D:\Personal\Desktop\360截图20150305160246323.jpg"/>
          <p:cNvPicPr/>
          <p:nvPr/>
        </p:nvPicPr>
        <p:blipFill>
          <a:blip r:embed="rId1"/>
          <a:srcRect l="0" t="0" r="1591" b="0"/>
          <a:stretch/>
        </p:blipFill>
        <p:spPr>
          <a:xfrm>
            <a:off x="1177920" y="943560"/>
            <a:ext cx="3358080" cy="1587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Personal\Desktop\360截图20150305160326967.jpg"/>
          <p:cNvPicPr/>
          <p:nvPr/>
        </p:nvPicPr>
        <p:blipFill>
          <a:blip r:embed="rId2"/>
          <a:srcRect l="0" t="0" r="2138" b="0"/>
          <a:stretch/>
        </p:blipFill>
        <p:spPr>
          <a:xfrm>
            <a:off x="4600440" y="942120"/>
            <a:ext cx="3278880" cy="1588680"/>
          </a:xfrm>
          <a:prstGeom prst="rect">
            <a:avLst/>
          </a:prstGeom>
          <a:ln w="0">
            <a:noFill/>
          </a:ln>
        </p:spPr>
      </p:pic>
      <p:sp>
        <p:nvSpPr>
          <p:cNvPr id="377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8" name="矩形 5"/>
          <p:cNvSpPr/>
          <p:nvPr/>
        </p:nvSpPr>
        <p:spPr>
          <a:xfrm>
            <a:off x="2631600" y="3126960"/>
            <a:ext cx="3891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导航菜单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不仅仅是网页设计需要，在</a:t>
            </a: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设计中导航菜单在演讲的逻辑性上起着不可或缺的作用，给自己的</a:t>
            </a: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加个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导航菜单，你会有不一样的感受。也试着用一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里的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触发器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，你会有不一样的收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381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2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D:\Personal\Desktop\150306午间欣赏\063524s4Q.jpg"/>
          <p:cNvPicPr/>
          <p:nvPr/>
        </p:nvPicPr>
        <p:blipFill>
          <a:blip r:embed="rId1"/>
          <a:stretch/>
        </p:blipFill>
        <p:spPr>
          <a:xfrm>
            <a:off x="2153160" y="1447200"/>
            <a:ext cx="4790880" cy="31939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52"/>
          <p:cNvSpPr/>
          <p:nvPr/>
        </p:nvSpPr>
        <p:spPr>
          <a:xfrm>
            <a:off x="2055960" y="601560"/>
            <a:ext cx="4045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趋势</a:t>
            </a:r>
            <a:r>
              <a:rPr b="1" lang="en-US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4</a:t>
            </a:r>
            <a:r>
              <a:rPr b="1" lang="zh-CN" sz="16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：卡片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056"/>
          <p:cNvSpPr/>
          <p:nvPr/>
        </p:nvSpPr>
        <p:spPr>
          <a:xfrm>
            <a:off x="2055960" y="902880"/>
            <a:ext cx="500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像卡片、瓷砖的排版设计在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2015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会继续流行，</a:t>
            </a:r>
            <a:r>
              <a:rPr b="0" lang="en-US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Pinterest</a:t>
            </a:r>
            <a:r>
              <a:rPr b="0" lang="zh-CN" sz="12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是这种设计潮流的领导者，我们将看到更多博客和电子商务网站使用这具设计技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058"/>
          <p:cNvSpPr/>
          <p:nvPr/>
        </p:nvSpPr>
        <p:spPr>
          <a:xfrm>
            <a:off x="2153160" y="1404720"/>
            <a:ext cx="4790880" cy="4536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矩形 1">
            <a:hlinkClick r:id="rId2"/>
          </p:cNvPr>
          <p:cNvSpPr/>
          <p:nvPr/>
        </p:nvSpPr>
        <p:spPr>
          <a:xfrm>
            <a:off x="3540240" y="4656960"/>
            <a:ext cx="2063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https://www.pinterest.co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1"/>
          <p:cNvSpPr/>
          <p:nvPr/>
        </p:nvSpPr>
        <p:spPr>
          <a:xfrm>
            <a:off x="1115640" y="894240"/>
            <a:ext cx="6821280" cy="1679040"/>
          </a:xfrm>
          <a:prstGeom prst="rect">
            <a:avLst/>
          </a:prstGeom>
          <a:solidFill>
            <a:srgbClr val="0686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89" name="Picture 2" descr="D:\Personal\Desktop\360截图20150305160839548.jpg"/>
          <p:cNvPicPr/>
          <p:nvPr/>
        </p:nvPicPr>
        <p:blipFill>
          <a:blip r:embed="rId1"/>
          <a:srcRect l="0" t="0" r="1410" b="4918"/>
          <a:stretch/>
        </p:blipFill>
        <p:spPr>
          <a:xfrm>
            <a:off x="1190160" y="952560"/>
            <a:ext cx="3345840" cy="1571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D:\Personal\Desktop\360截图20150305160900245.jpg"/>
          <p:cNvPicPr/>
          <p:nvPr/>
        </p:nvPicPr>
        <p:blipFill>
          <a:blip r:embed="rId2"/>
          <a:srcRect l="0" t="0" r="1715" b="0"/>
          <a:stretch/>
        </p:blipFill>
        <p:spPr>
          <a:xfrm>
            <a:off x="4600440" y="941760"/>
            <a:ext cx="3278880" cy="1581840"/>
          </a:xfrm>
          <a:prstGeom prst="rect">
            <a:avLst/>
          </a:prstGeom>
          <a:ln w="0">
            <a:noFill/>
          </a:ln>
        </p:spPr>
      </p:pic>
      <p:sp>
        <p:nvSpPr>
          <p:cNvPr id="391" name="等腰三角形 2"/>
          <p:cNvSpPr/>
          <p:nvPr/>
        </p:nvSpPr>
        <p:spPr>
          <a:xfrm flipV="1">
            <a:off x="1115640" y="2572560"/>
            <a:ext cx="6821280" cy="2136600"/>
          </a:xfrm>
          <a:prstGeom prst="triangle">
            <a:avLst>
              <a:gd name="adj" fmla="val 50745"/>
            </a:avLst>
          </a:prstGeom>
          <a:solidFill>
            <a:srgbClr val="0686c8">
              <a:alpha val="10000"/>
            </a:srgb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矩形 5"/>
          <p:cNvSpPr/>
          <p:nvPr/>
        </p:nvSpPr>
        <p:spPr>
          <a:xfrm>
            <a:off x="2631600" y="3126960"/>
            <a:ext cx="38919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卡片、瓷砖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的排版，用在</a:t>
            </a: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中能使</a:t>
            </a:r>
            <a:r>
              <a:rPr b="0" lang="en-US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看起来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生动有趣味</a:t>
            </a: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能让观众在趣味中学到知识，这种风格多用于教育界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00" spc="-1" strike="noStrike">
                <a:solidFill>
                  <a:srgbClr val="0d0d0d"/>
                </a:solidFill>
                <a:latin typeface="张海山锐线体2.0"/>
                <a:ea typeface="张海山锐线体2.0"/>
              </a:rPr>
              <a:t>特别是</a:t>
            </a:r>
            <a:r>
              <a:rPr b="0" lang="zh-CN" sz="11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少儿教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7"/>
          <p:cNvSpPr/>
          <p:nvPr/>
        </p:nvSpPr>
        <p:spPr>
          <a:xfrm>
            <a:off x="2250720" y="2687040"/>
            <a:ext cx="4641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1400" spc="-1" strike="noStrike">
                <a:solidFill>
                  <a:srgbClr val="0686c8"/>
                </a:solidFill>
                <a:latin typeface="张海山锐线体2.0"/>
                <a:ea typeface="张海山锐线体2.0"/>
              </a:rPr>
              <a:t>借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8"/>
          <p:cNvGrpSpPr/>
          <p:nvPr/>
        </p:nvGrpSpPr>
        <p:grpSpPr>
          <a:xfrm>
            <a:off x="4489560" y="2974320"/>
            <a:ext cx="159840" cy="159840"/>
            <a:chOff x="4489560" y="2974320"/>
            <a:chExt cx="159840" cy="159840"/>
          </a:xfrm>
        </p:grpSpPr>
        <p:sp>
          <p:nvSpPr>
            <p:cNvPr id="395" name="椭圆 4"/>
            <p:cNvSpPr/>
            <p:nvPr/>
          </p:nvSpPr>
          <p:spPr>
            <a:xfrm>
              <a:off x="4489560" y="2974320"/>
              <a:ext cx="159840" cy="159840"/>
            </a:xfrm>
            <a:prstGeom prst="ellipse">
              <a:avLst/>
            </a:prstGeom>
            <a:solidFill>
              <a:schemeClr val="tx1">
                <a:lumMod val="95000"/>
                <a:lumOff val="5000"/>
                <a:alpha val="2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L 形 6"/>
            <p:cNvSpPr/>
            <p:nvPr/>
          </p:nvSpPr>
          <p:spPr>
            <a:xfrm rot="18889200">
              <a:off x="4529160" y="2996640"/>
              <a:ext cx="79560" cy="79560"/>
            </a:xfrm>
            <a:prstGeom prst="corner">
              <a:avLst>
                <a:gd name="adj1" fmla="val 9472"/>
                <a:gd name="adj2" fmla="val 818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  <Words>985</Words>
  <Paragraphs>74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2:45:04Z</dcterms:created>
  <dc:creator>2013-9-1</dc:creator>
  <dc:description/>
  <dc:language>en-US</dc:language>
  <cp:lastModifiedBy>2013-9-1</cp:lastModifiedBy>
  <dcterms:modified xsi:type="dcterms:W3CDTF">2015-03-06T07:40:48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2</vt:r8>
  </property>
</Properties>
</file>